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475913" cy="7239000"/>
  <p:notesSz cx="679291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663120" y="755640"/>
            <a:ext cx="5475240" cy="378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7560" y="4789440"/>
            <a:ext cx="4978440" cy="45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0" y="958068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49840" y="958068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3E3E-32CF-41B0-87F1-C455B3BB3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49840" y="958068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212-F9D3-443E-8CFA-2FE1219C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71400" y="763560"/>
            <a:ext cx="5451480" cy="376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92680"/>
            <a:ext cx="4981680" cy="42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49840" y="958068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7060-309D-45AA-8364-40232B1A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0"/>
            <a:ext cx="29448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71400" y="763560"/>
            <a:ext cx="5451480" cy="3767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792680"/>
            <a:ext cx="4981680" cy="425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8989-1F02-483E-A8F9-080B9574E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7B1F-6450-4458-B562-E050DCFEA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5A7C-69B8-4D5B-B55A-AA2BE0ADD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0500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019640" y="266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0500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019640" y="4736520"/>
            <a:ext cx="287064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8AF4-A0CB-48A8-9369-2CC2BB77D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A9FE-08B7-4DCF-A324-22ADDD74F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B95C-06A2-4268-8EC8-821C0C820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1397-466E-4EBD-921E-946013A7F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2EB6-6D42-4B4A-B59C-AFC0F0732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B8B5-B379-49F5-AA54-40DA718DE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94E7-C673-4299-9D1B-F8B38D66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58760" y="473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673F-139D-4025-A6FE-2DA5F80E6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58760" y="2666520"/>
            <a:ext cx="43506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736520"/>
            <a:ext cx="8915400" cy="189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FE45-B949-47D7-A69C-757E4553B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75440" y="5632560"/>
            <a:ext cx="2230560" cy="1280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934320"/>
            <a:ext cx="2209680" cy="228600"/>
          </a:xfrm>
          <a:prstGeom prst="rect">
            <a:avLst/>
          </a:prstGeom>
          <a:solidFill>
            <a:srgbClr val="8593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90360" y="26665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6000"/>
          </a:bodyPr>
          <a:p>
            <a:pPr marL="347040" indent="-34704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54200" indent="-2908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5956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22880" indent="-2314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87640" indent="-232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90360" y="16765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981080" y="6933960"/>
            <a:ext cx="277920" cy="22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473CF-BF3A-4D3E-BE9F-3A5D5780777F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-76320"/>
            <a:ext cx="9029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533520" y="533520"/>
            <a:ext cx="0" cy="6248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 rot="16800">
            <a:off x="-9720" y="6914520"/>
            <a:ext cx="2438280" cy="214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RC – Brussels on </a:t>
            </a:r>
            <a:r>
              <a:rPr b="0" lang="fr-BE" sz="12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.0</a:t>
            </a:r>
            <a:r>
              <a:rPr b="0" lang="el-GR" sz="1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52280" y="1981080"/>
            <a:ext cx="331920" cy="35686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5909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uropa.eu.int/comm/environment/health/index_en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2438280"/>
            <a:ext cx="90680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 Narrow"/>
              </a:rPr>
              <a:t>The European Strategy on Environment &amp; Heal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(a follow-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Nina Wuczyn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</a:rPr>
              <a:t>European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AREHNA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7-9 May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Kos Island, Gre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3080" y="457200"/>
            <a:ext cx="226404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02720" y="5707080"/>
            <a:ext cx="2232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46000" y="955440"/>
            <a:ext cx="8855280" cy="5903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Integrated E&amp;H Monitoring &amp; Response 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- Bio-monitoring of childre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- Dioxins, Heavy Metals, Endoc. Disr. (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Pilot projects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- Harmonised E&amp;H Indicato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Research :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hildren, Combined Exposur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Reducing Exposur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Indoor &amp; outdoor air, heavy metals, electromagnetic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fields, urban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646000" y="0"/>
            <a:ext cx="783108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7. Scope of Cycle I (2)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46000" y="0"/>
            <a:ext cx="783108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8. Implement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280" y="124308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Narrow"/>
              </a:rPr>
              <a:t>Full Stakeholder Involvemen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onsultative Group on E&amp;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Technical Working Grou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Narrow"/>
              </a:rPr>
              <a:t>Preparing the “Action Plan 2004-2010”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ommission’s input for Budapest 2004 Ministerial Conference on Environment and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10477440" cy="6354720"/>
          </a:xfrm>
          <a:prstGeom prst="rect">
            <a:avLst/>
          </a:prstGeom>
          <a:gradFill rotWithShape="0">
            <a:gsLst>
              <a:gs pos="0">
                <a:srgbClr val="fcdd6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35080"/>
            <a:ext cx="102790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GB" sz="3500" spc="-1" strike="noStrike">
                <a:solidFill>
                  <a:srgbClr val="3333cc"/>
                </a:solidFill>
                <a:latin typeface="Arial Narrow"/>
              </a:rPr>
              <a:t>9. Organisational set-up for implement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5880" y="1689120"/>
            <a:ext cx="873108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960" y="1467000"/>
            <a:ext cx="209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35080" y="884160"/>
            <a:ext cx="2881440" cy="90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noAutofit/>
          </a:bodyPr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4680" y="965160"/>
            <a:ext cx="24004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nsultative 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n Env. &amp; Heal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8680" y="1930320"/>
            <a:ext cx="2688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nv. &amp; Health experts  from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MS, Acceding Countries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EA, EFSA, WHO,  NGOs,  …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08560" y="971640"/>
            <a:ext cx="2794320" cy="743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noAutofit/>
          </a:bodyPr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33960" y="971640"/>
            <a:ext cx="31561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echnical 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0640" y="1689120"/>
            <a:ext cx="2270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Experts from MS,</a:t>
            </a:r>
            <a:r>
              <a:rPr b="0" lang="en-GB" sz="15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AC,  EEA, EFSA, WHO, NGO’s,  doctors, Consumer Organis., Academia, Industry, 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00" y="6032520"/>
            <a:ext cx="42782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CTION PLAN 2004-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Spring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680" y="3218040"/>
            <a:ext cx="1571400" cy="2492280"/>
          </a:xfrm>
          <a:custGeom>
            <a:avLst/>
            <a:gdLst>
              <a:gd name="textAreaLeft" fmla="*/ 210240 w 1571400"/>
              <a:gd name="textAreaRight" fmla="*/ 1361160 w 1571400"/>
              <a:gd name="textAreaTop" fmla="*/ 435960 h 2492280"/>
              <a:gd name="textAreaBottom" fmla="*/ 1806840 h 24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68560" y="3218040"/>
            <a:ext cx="1484280" cy="2492280"/>
          </a:xfrm>
          <a:custGeom>
            <a:avLst/>
            <a:gdLst>
              <a:gd name="textAreaLeft" fmla="*/ 198720 w 1484280"/>
              <a:gd name="textAreaRight" fmla="*/ 1285560 w 1484280"/>
              <a:gd name="textAreaTop" fmla="*/ 435960 h 2492280"/>
              <a:gd name="textAreaBottom" fmla="*/ 1806840 h 24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680" y="3780000"/>
            <a:ext cx="4103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algn="ctr"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+ Commi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oard of Director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ask 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39440" y="2585880"/>
            <a:ext cx="2109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2680"/>
                <a:tab algn="l" pos="2025720"/>
                <a:tab algn="l" pos="3038400"/>
                <a:tab algn="l" pos="4051440"/>
                <a:tab algn="l" pos="5064120"/>
                <a:tab algn="l" pos="6076800"/>
                <a:tab algn="l" pos="7089840"/>
                <a:tab algn="l" pos="8102520"/>
                <a:tab algn="l" pos="9115560"/>
                <a:tab algn="l" pos="10128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62520" y="2976480"/>
            <a:ext cx="4453200" cy="3811320"/>
            <a:chOff x="5762520" y="2976480"/>
            <a:chExt cx="4453200" cy="3811320"/>
          </a:xfrm>
        </p:grpSpPr>
        <p:sp>
          <p:nvSpPr>
            <p:cNvPr id="96" name=""/>
            <p:cNvSpPr/>
            <p:nvPr/>
          </p:nvSpPr>
          <p:spPr>
            <a:xfrm>
              <a:off x="5762520" y="358164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Indic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62520" y="436140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iseas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62520" y="2976480"/>
              <a:ext cx="148428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dicators</a:t>
              </a:r>
              <a:br>
                <a:rPr sz="1800"/>
              </a:b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Priority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246800" y="436140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Pilot Project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46800" y="358164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io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46800" y="2976480"/>
              <a:ext cx="148428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ntegrated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oni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31080" y="2976480"/>
              <a:ext cx="148464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Research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Times New Roman"/>
                </a:rPr>
                <a:t>in E&amp;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2520" y="4968720"/>
              <a:ext cx="1484280" cy="606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hildhood 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Can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46800" y="4968720"/>
              <a:ext cx="1484280" cy="606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Diox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62520" y="5575320"/>
              <a:ext cx="148428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Respiratory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sth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46800" y="5575320"/>
              <a:ext cx="148428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Heavy met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62520" y="618084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Neuro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46800" y="6180840"/>
              <a:ext cx="148428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31080" y="3581640"/>
              <a:ext cx="148464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31080" y="4361400"/>
              <a:ext cx="148464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31080" y="4968720"/>
              <a:ext cx="1484640" cy="606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31080" y="5575320"/>
              <a:ext cx="1484640" cy="605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31080" y="6180840"/>
              <a:ext cx="1484640" cy="606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0760" bIns="50760" anchor="ctr">
              <a:noAutofit/>
            </a:bodyPr>
            <a:p>
              <a:pPr algn="ctr">
                <a:tabLst>
                  <a:tab algn="l" pos="0"/>
                  <a:tab algn="l" pos="1012680"/>
                  <a:tab algn="l" pos="2025720"/>
                  <a:tab algn="l" pos="3038400"/>
                  <a:tab algn="l" pos="4051440"/>
                  <a:tab algn="l" pos="5064120"/>
                  <a:tab algn="l" pos="6076800"/>
                  <a:tab algn="l" pos="7089840"/>
                  <a:tab algn="l" pos="8102520"/>
                  <a:tab algn="l" pos="9115560"/>
                  <a:tab algn="l" pos="10128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67760" y="4448520"/>
              <a:ext cx="436680" cy="2166120"/>
            </a:xfrm>
            <a:prstGeom prst="upDownArrow">
              <a:avLst>
                <a:gd name="adj1" fmla="val 50000"/>
                <a:gd name="adj2" fmla="val 9874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46000" y="-360"/>
            <a:ext cx="7219800" cy="739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10. Time lin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83920" y="2090520"/>
            <a:ext cx="8906040" cy="434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291960" indent="-29196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1143000"/>
                <a:tab algn="r" pos="657864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Action Plan 2004-2010 to be adopted by the Commission in June, 2004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91960" indent="0">
              <a:spcBef>
                <a:spcPts val="901"/>
              </a:spcBef>
              <a:buNone/>
              <a:tabLst>
                <a:tab algn="l" pos="1143000"/>
                <a:tab algn="r" pos="657864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91960" indent="-29196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1143000"/>
                <a:tab algn="r" pos="657864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Action Plan to be presented at the </a:t>
            </a: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Budapest Ministerial Conference on Environment &amp; Health (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June 23-25, 2004</a:t>
            </a: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86000" y="306000"/>
            <a:ext cx="6119640" cy="839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600" spc="-1" strike="noStrike">
                <a:solidFill>
                  <a:srgbClr val="3333cc"/>
                </a:solidFill>
                <a:latin typeface="Arial Narrow"/>
              </a:rPr>
              <a:t>11. Developing the Action Pla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963800"/>
            <a:ext cx="8915400" cy="3672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Full Stakeholders’ involvement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Continued consultation process with 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Collaboration with other organizations and agencies (EEA,WHO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Comprehensive input from Technical Working Grou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2000" y="235080"/>
            <a:ext cx="776448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3333cc"/>
                </a:solidFill>
                <a:latin typeface="Arial Narrow"/>
              </a:rPr>
              <a:t>12. Input from the Technical Working Grou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2000" y="1674360"/>
            <a:ext cx="9059760" cy="4032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Kick-off meetings in Warsaw, Brussels and Rome in October 2003 (ten days of E&amp;H in Europ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Baseline reports - December 2003 (review of state-of-the art, identification of knowledge ga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Interim reports – February 2004 – first ideas on options for ac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Final reports – March 2004 – recommendations for ac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10000" y="306360"/>
            <a:ext cx="4825800" cy="695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600" spc="-1" strike="noStrike">
                <a:solidFill>
                  <a:srgbClr val="3333cc"/>
                </a:solidFill>
                <a:latin typeface="Arial Narrow"/>
              </a:rPr>
              <a:t>13. Proposed actions (1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243080"/>
            <a:ext cx="9361440" cy="5386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1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Developing integrated E&amp;H information and  respons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Integrated environmental monitorin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Integrated health monitoring, incl. e</a:t>
            </a: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nvironmental heal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Biomonit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Response – exposure reduction actions relevant for th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priority diseases and priority pollutants, EU policy re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Coordination and integration of E&amp;H research activiti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Integrating and strengthening E&amp;H 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Research targeted on </a:t>
            </a:r>
            <a:r>
              <a:rPr b="1" i="1" lang="pl-PL" sz="2800" spc="-1" strike="noStrike">
                <a:solidFill>
                  <a:srgbClr val="000000"/>
                </a:solidFill>
                <a:latin typeface="Arial Narrow"/>
              </a:rPr>
              <a:t>priority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diseases and expos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Methodological platforms for E&amp;H assess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2720" y="235080"/>
            <a:ext cx="5112000" cy="83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600" spc="-1" strike="noStrike">
                <a:solidFill>
                  <a:srgbClr val="3333cc"/>
                </a:solidFill>
                <a:latin typeface="Arial Narrow"/>
              </a:rPr>
              <a:t>14. Proposed actions (2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315800"/>
            <a:ext cx="9217080" cy="5182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180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merging iss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Extreme weather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Climate change and heal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Emerging pathogens in wa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Arial Narrow"/>
              </a:rPr>
              <a:t>Awareness raising, risk communication, education and train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Training and organisational capacity build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Public health activities and network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30360" y="163080"/>
            <a:ext cx="5962680" cy="981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600" spc="-1" strike="noStrike">
                <a:solidFill>
                  <a:srgbClr val="3333cc"/>
                </a:solidFill>
                <a:latin typeface="Arial Narrow"/>
              </a:rPr>
              <a:t>15. Reproductive Health in A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316160"/>
            <a:ext cx="9001080" cy="4680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Reproductive health effects covered </a:t>
            </a: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mainly </a:t>
            </a: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by the Technical Working Group on Endocrine Disruptors – a pilot proj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Recommendations and options for actions </a:t>
            </a: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provided feedback for</a:t>
            </a:r>
            <a:r>
              <a:rPr b="1" lang="nl-BE" sz="3200" spc="-1" strike="noStrike">
                <a:solidFill>
                  <a:srgbClr val="000000"/>
                </a:solidFill>
                <a:latin typeface="Arial Narrow"/>
              </a:rPr>
              <a:t> the following sections of the AP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Integrated E&amp;H information and respon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Arial Narrow"/>
              </a:rPr>
              <a:t>Awareness raising, risk communication.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28640" y="380880"/>
            <a:ext cx="64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99"/>
                </a:solidFill>
                <a:latin typeface="Arial Narrow"/>
              </a:rPr>
              <a:t>Timeline for implementation of the 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219320"/>
            <a:ext cx="9448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Beginning of June – adoption of AP by the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23-25 June – presentation in Budap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Narrow"/>
              </a:rPr>
              <a:t>September – December – new working groups, kick of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Environment &amp; Health 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uropa.eu.int/comm/environment/health/index_e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4720" y="0"/>
            <a:ext cx="718812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The European E&amp;H Strateg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71760" y="1747440"/>
            <a:ext cx="8905680" cy="434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asis: Articles 152 and 174 of Amsterdam Trea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Need to address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 interaction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between pollutan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New EU policy orientations started to address interactions between environmental factors</a:t>
            </a:r>
            <a:r>
              <a:rPr b="0" lang="pl-PL" sz="3200" spc="-1" strike="noStrike">
                <a:solidFill>
                  <a:srgbClr val="000000"/>
                </a:solidFill>
                <a:latin typeface="Arial Narrow"/>
              </a:rPr>
              <a:t> and health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6th EA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ommunity AP Public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5th &amp; 6th Framework Programmes for R&amp;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7902720" y="5707080"/>
            <a:ext cx="2232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34720" y="2898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nl-BE" sz="3600" spc="-1" strike="noStrike">
                <a:solidFill>
                  <a:srgbClr val="3333cc"/>
                </a:solidFill>
                <a:latin typeface="Arial Narrow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31080" y="235080"/>
            <a:ext cx="21099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46000" y="-360"/>
            <a:ext cx="7831080" cy="739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1. The “SCALE Initiative”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387080"/>
            <a:ext cx="5400720" cy="5327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 Narrow"/>
              </a:rPr>
              <a:t>S 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ci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 Narrow"/>
              </a:rPr>
              <a:t>C 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hildre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 Narrow"/>
              </a:rPr>
              <a:t>A 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wareness Rais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 Narrow"/>
              </a:rPr>
              <a:t>L 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egal instrumen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Arial Narrow"/>
              </a:rPr>
              <a:t>E </a:t>
            </a: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valu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70720" y="4308480"/>
            <a:ext cx="45352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34720" y="1603440"/>
            <a:ext cx="9342360" cy="5106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From single pollutants in single compartments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To “interactions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 Narrow"/>
              </a:rPr>
              <a:t>Integration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of all the information on state of the environment, ecosystems, human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---&gt; to investigate links between Environment &amp; Healt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---&gt; to develop a cause-effect framework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---&gt; to develop policy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EU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502000" y="-360"/>
            <a:ext cx="7331040" cy="739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2. Rational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917640" y="1674720"/>
            <a:ext cx="1222200" cy="1609920"/>
          </a:xfrm>
          <a:custGeom>
            <a:avLst/>
            <a:gdLst>
              <a:gd name="textAreaLeft" fmla="*/ 163440 w 1222200"/>
              <a:gd name="textAreaRight" fmla="*/ 1058760 w 1222200"/>
              <a:gd name="textAreaTop" fmla="*/ 281520 h 1609920"/>
              <a:gd name="textAreaBottom" fmla="*/ 1167120 h 16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611440"/>
            <a:ext cx="2270160" cy="804960"/>
          </a:xfrm>
          <a:custGeom>
            <a:avLst/>
            <a:gdLst>
              <a:gd name="textAreaLeft" fmla="*/ 354600 w 2270160"/>
              <a:gd name="textAreaRight" fmla="*/ 1986480 w 2270160"/>
              <a:gd name="textAreaTop" fmla="*/ 201240 h 804960"/>
              <a:gd name="textAreaBottom" fmla="*/ 603720 h 804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1294920"/>
            <a:ext cx="8905680" cy="434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Narrow"/>
              </a:rPr>
              <a:t>Reduce disease burden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caused by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environmental factors in EU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2. Identify &amp;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Narrow"/>
              </a:rPr>
              <a:t>prevent new health threats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caused by environmental factors</a:t>
            </a:r>
            <a:r>
              <a:rPr b="0" i="1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3. Strengthen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 Narrow"/>
              </a:rPr>
              <a:t>EU capacity for policy making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575080" y="0"/>
            <a:ext cx="733104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3. Objectives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90360" y="0"/>
            <a:ext cx="7417080" cy="83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4. Key element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09280" y="1603440"/>
            <a:ext cx="7272360" cy="3962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Integrated Approach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Incremental progress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Focus on Children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4. 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Acceding Countries</a:t>
            </a: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14720" y="1531440"/>
            <a:ext cx="7416720" cy="4343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 Narrow"/>
              </a:rPr>
              <a:t>Integration of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E&amp;H concerns into other polic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Understanding cycle of polluta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Interven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Stakeholder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575080" y="-360"/>
            <a:ext cx="7402320" cy="739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5. Integrated approach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90720" y="1171440"/>
            <a:ext cx="8905680" cy="4391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Integrated E&amp;H Monit. &amp; Response Syste</a:t>
            </a: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m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Implemented in cycl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Cycle I (2004-2010) :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-  4 diseases &amp; assoc. environmental factor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 Narrow"/>
              </a:rPr>
              <a:t>-  prepare basis for Cycle I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Cycle II (2010-2015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646000" y="0"/>
            <a:ext cx="7831080" cy="66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6. Strategy</a:t>
            </a: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243080"/>
            <a:ext cx="8905680" cy="5113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7000"/>
          </a:bodyPr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1. Childhood respiratory diseases, asthma, allerg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2. Neuro-developmental disorder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3. Childhood canc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4. Endocrine disrupting effec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Identify new environmental health threats to prepare scope of second cy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646360" y="0"/>
            <a:ext cx="7259760" cy="595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7. Scope of Cycle I (1)</a:t>
            </a:r>
            <a:r>
              <a:rPr b="0" lang="en-GB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55:05Z</dcterms:created>
  <dc:creator>dallege</dc:creator>
  <dc:description/>
  <dc:language>en-US</dc:language>
  <cp:lastModifiedBy>Nina Wuczynska</cp:lastModifiedBy>
  <cp:lastPrinted>2003-10-15T13:10:37Z</cp:lastPrinted>
  <dcterms:modified xsi:type="dcterms:W3CDTF">2004-05-08T04:05:32Z</dcterms:modified>
  <cp:revision>196</cp:revision>
  <dc:subject/>
  <dc:title>No Slide Title</dc:title>
</cp:coreProperties>
</file>