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4839-313F-450D-AFCD-1B70FF9A7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0791-0C7D-4836-8CE7-3EF3C66AF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2600" y="4629240"/>
            <a:ext cx="50259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ldImg"/>
          </p:nvPr>
        </p:nvSpPr>
        <p:spPr>
          <a:xfrm>
            <a:off x="998640" y="738360"/>
            <a:ext cx="485748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76DC-39BA-435A-9329-1286D1C8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122D-1C8A-41E7-B0BE-EB5D75A2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3F11-AAAF-4E18-A8F1-7E78EEF2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6B92-09AD-4412-832C-B1365BA8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081E-43A9-423B-87C0-7981AECD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FA9E-99DC-4141-BFC3-F289DE73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2310-20F4-40A3-8A36-9F32CBA8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606B-39A6-4D6D-B6A5-9DBC3E4C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F964-EA42-4917-8A95-FB045B7E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72D2-04A0-499A-8669-5F967865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3C79-09D8-4BF1-B715-FE2BF437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34E1-DA22-484C-96EA-E2DFD5EC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C12E-9580-451A-A9A0-76A2A41C5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6440" y="1220760"/>
            <a:ext cx="851076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CRYPTORCHIDISM</a:t>
            </a:r>
            <a:br>
              <a:rPr sz="36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idemiological data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vironmental invol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ff0000"/>
                </a:solidFill>
                <a:uFillTx/>
                <a:latin typeface="Arial"/>
              </a:rPr>
              <a:t>After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 199</a:t>
            </a:r>
            <a:r>
              <a:rPr b="1" lang="fr-FR" sz="44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990720"/>
            <a:ext cx="8569080" cy="56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ech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w birth weight and premat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all for gestational age 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ther with cryptorchid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reased risk in t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w maternal p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Jones, 1998; Akre, 1999; Mayr, 1999; Moller, 1999; Weidner, 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63560" y="2209680"/>
            <a:ext cx="776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Arial"/>
              </a:rPr>
              <a:t>environnmental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facto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249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924440" y="4038480"/>
            <a:ext cx="330516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emi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t al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 The Florida Panther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523800"/>
            <a:ext cx="9142560" cy="5803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02160" y="5257800"/>
            <a:ext cx="44308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illet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t al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995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 Alligator from Lake Apopka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5280" y="380880"/>
            <a:ext cx="8748720" cy="58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In huma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thylstilbestrol (DES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non-steroidal œstro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yptorchidism in descend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Gill, 197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k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ure before the 11th week of pregnanc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Wilcox, 19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effect if exposure to other sex horm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Raman-Wims, 19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124080"/>
            <a:ext cx="905040" cy="243000"/>
          </a:xfrm>
          <a:prstGeom prst="rightArrow">
            <a:avLst>
              <a:gd name="adj1" fmla="val 50000"/>
              <a:gd name="adj2" fmla="val 9311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343400"/>
            <a:ext cx="905040" cy="287280"/>
          </a:xfrm>
          <a:prstGeom prst="rightArrow">
            <a:avLst>
              <a:gd name="adj1" fmla="val 50000"/>
              <a:gd name="adj2" fmla="val 787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5562720"/>
            <a:ext cx="905040" cy="287280"/>
          </a:xfrm>
          <a:prstGeom prst="rightArrow">
            <a:avLst>
              <a:gd name="adj1" fmla="val 50000"/>
              <a:gd name="adj2" fmla="val 787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0920" y="380880"/>
            <a:ext cx="8664480" cy="62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Epidemiological stud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pain (Granada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Garcia-Rodriguez, 19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ionship between orchiopexy and mother’s residence in zone with high use of pesticides (lindane, endosulf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nmark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Weidner, 19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risk of cryptorchidism in sons of mothers working in horticulture and agri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ungar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Czeizel, 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lation between cryptorchidism and mother’s residence near a plastics factory (polychlorine, acrylonitr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63520" y="1488960"/>
            <a:ext cx="4213080" cy="355932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753080" y="1471680"/>
            <a:ext cx="4140000" cy="359388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555480" y="5165640"/>
            <a:ext cx="32360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Orchiopexy rate / 1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&lt; 3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3.00 - 4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&gt;4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4720" y="5645160"/>
            <a:ext cx="411120" cy="139680"/>
          </a:xfrm>
          <a:prstGeom prst="rect">
            <a:avLst/>
          </a:prstGeom>
          <a:solidFill>
            <a:srgbClr val="cd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70040" y="6019920"/>
            <a:ext cx="420480" cy="152280"/>
          </a:xfrm>
          <a:prstGeom prst="rect">
            <a:avLst/>
          </a:prstGeom>
          <a:solidFill>
            <a:srgbClr val="c79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70040" y="6400800"/>
            <a:ext cx="420480" cy="152280"/>
          </a:xfrm>
          <a:prstGeom prst="rect">
            <a:avLst/>
          </a:prstGeom>
          <a:solidFill>
            <a:srgbClr val="4b8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33720" y="5241960"/>
            <a:ext cx="3385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Level of use of pestic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95720" y="5721480"/>
            <a:ext cx="409680" cy="139680"/>
          </a:xfrm>
          <a:prstGeom prst="rect">
            <a:avLst/>
          </a:prstGeom>
          <a:solidFill>
            <a:srgbClr val="cd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99200" y="5715000"/>
            <a:ext cx="422280" cy="152280"/>
          </a:xfrm>
          <a:prstGeom prst="rect">
            <a:avLst/>
          </a:prstGeom>
          <a:solidFill>
            <a:srgbClr val="c79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89600" y="6095880"/>
            <a:ext cx="422280" cy="152640"/>
          </a:xfrm>
          <a:prstGeom prst="rect">
            <a:avLst/>
          </a:prstGeom>
          <a:solidFill>
            <a:srgbClr val="4b8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99200" y="6095880"/>
            <a:ext cx="422280" cy="152640"/>
          </a:xfrm>
          <a:prstGeom prst="rect">
            <a:avLst/>
          </a:prstGeom>
          <a:solidFill>
            <a:srgbClr val="192f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8520" y="0"/>
            <a:ext cx="90154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sure to pesticides and cryptorchidis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al evidence of a possible associ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Garcia-Rodriguez et al., 199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064600" y="1986120"/>
            <a:ext cx="5164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0000"/>
                </a:solidFill>
                <a:latin typeface="Arial"/>
              </a:rPr>
              <a:t>Hormon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0000"/>
                </a:solidFill>
                <a:latin typeface="Arial"/>
              </a:rPr>
              <a:t>mecanism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14200" y="228600"/>
            <a:ext cx="8929800" cy="63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Two phases in testis descent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hase of transabdominal migration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d of 1st trime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H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l3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sulin-like growth factor 3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guinoscrotal pha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end of 3rd trimester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drogen-depend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itonin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gene related pep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Hutson, 1994; Nef &amp; Parada, 1999; Emmen, 2000; Baker, 200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hormon%20andro%205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4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763320" y="625968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Sharpe, 2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228600"/>
            <a:ext cx="91440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Œstrogen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hypothesi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nimal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genous œstrogen – endogenous œs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7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œstradiol – 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tion of gubernaculum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ction of œstrogen 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n-regulation of Insl3 in Leydi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380880"/>
            <a:ext cx="9372600" cy="61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cent changes in male reproductive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rease in sperm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 i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6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is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6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ospad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6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yptorchid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vironmental hypothesi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28600" y="228600"/>
            <a:ext cx="8915400" cy="64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ntiandrogen hypothes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se of flutam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on-steroidal antiandro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ly pha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e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ibition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action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cular desc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cular des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ti a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rogen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p,p’-DDE, vinclozoline, phthala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(Husmann, 1991 ; Spencer, 199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819520"/>
            <a:ext cx="433440" cy="504720"/>
          </a:xfrm>
          <a:prstGeom prst="downArrow">
            <a:avLst>
              <a:gd name="adj1" fmla="val 50000"/>
              <a:gd name="adj2" fmla="val 2911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2819520"/>
            <a:ext cx="432000" cy="504720"/>
          </a:xfrm>
          <a:prstGeom prst="downArrow">
            <a:avLst>
              <a:gd name="adj1" fmla="val 50000"/>
              <a:gd name="adj2" fmla="val 2920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69760" y="1986120"/>
            <a:ext cx="755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0000"/>
                </a:solidFill>
                <a:latin typeface="Arial"/>
              </a:rPr>
              <a:t>Bioaccumul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838080"/>
            <a:ext cx="896472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 of fat tissue in young children with or without cryptorchidis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Hosie, 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ptachloroeposide ++ -  hexachlorobenzene 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 cryptorchid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cental œstradiol in newborns with and without cryptorchidism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Hadziselimovic,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igh œstradio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 newborns with cryptorchid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478520" y="1986120"/>
            <a:ext cx="63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0000"/>
                </a:solidFill>
                <a:latin typeface="Arial"/>
              </a:rPr>
              <a:t>Bioavailabilit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8600" y="228600"/>
            <a:ext cx="89154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SHBG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ex hormone-binding globuli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sport and modulation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eno-œstrogen bio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henols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modif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ndrogen – œstrogen bal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oto, 1994; Bernstein, 1998; Dechaud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02440" y="1787400"/>
            <a:ext cx="768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800" spc="-1" strike="noStrike">
                <a:solidFill>
                  <a:srgbClr val="ff0000"/>
                </a:solidFill>
                <a:latin typeface="Arial"/>
              </a:rPr>
              <a:t>CONCLUSI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58920" y="457200"/>
            <a:ext cx="87850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ryptorchidis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requent mal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recent incr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b2b2b2"/>
                </a:solidFill>
                <a:latin typeface="Arial"/>
              </a:rPr>
              <a:t>Fœtal growth retar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58920" y="457200"/>
            <a:ext cx="87850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ryptorchidis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frequent mal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cent incr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b2b2b2"/>
                </a:solidFill>
                <a:latin typeface="Arial"/>
              </a:rPr>
              <a:t>Fœtal growth retar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58920" y="457200"/>
            <a:ext cx="87850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ryptorchidis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frequent mal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recent incr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Arial"/>
              </a:rPr>
              <a:t>Fœtal growth retar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62120" y="512640"/>
            <a:ext cx="807696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nvironmental factor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(œstrogen-like, antiandrogen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isrupt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œstrogen </a:t>
            </a:r>
            <a:r>
              <a:rPr b="0" lang="fr-FR" sz="4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androgen bal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2b2b2"/>
                </a:solidFill>
                <a:latin typeface="Arial"/>
              </a:rPr>
              <a:t>Urgent need for further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9280" y="274680"/>
            <a:ext cx="89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What is cryptorchidism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916280"/>
            <a:ext cx="84358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escent of the testis is the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 organ from the abdominal c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the bottom of a fully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fully relaxed scro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corer (196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62120" y="512640"/>
            <a:ext cx="807696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nvironmental factor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(œstrogen-like, antiandrogen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isrupt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œstrogen </a:t>
            </a:r>
            <a:r>
              <a:rPr b="0" lang="fr-FR" sz="4000" spc="-1" strike="noStrike">
                <a:solidFill>
                  <a:srgbClr val="b2b2b2"/>
                </a:solidFill>
                <a:latin typeface="Arial"/>
              </a:rPr>
              <a:t>/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androgen bal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Urgent need for further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716280" y="-50760"/>
            <a:ext cx="5103720" cy="6908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24360" y="189000"/>
            <a:ext cx="46641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Human Fertility Research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(EA N° 36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Hôpital Paule de Viguier CHU Toul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057400"/>
            <a:ext cx="38098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E Huyg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PF Thonneau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Cryptorchidis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7920"/>
            <a:ext cx="86104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ly confirmed risk factor of testis ca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cancer in young 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rkowitz, 1993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0 new cases/year in Fr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édelin, 2002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sk factor of infer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of cryptorchidism in 10% of infertile couples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ieusset, 1995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973600" y="2209680"/>
            <a:ext cx="33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Arial"/>
              </a:rPr>
              <a:t>Incide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reas</a:t>
            </a:r>
            <a:r>
              <a:rPr b="1" lang="fr-FR" sz="4400" spc="-1" strike="noStrike">
                <a:solidFill>
                  <a:srgbClr val="ff0000"/>
                </a:solidFill>
                <a:latin typeface="Arial"/>
              </a:rPr>
              <a:t>ing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8920" y="1447920"/>
            <a:ext cx="87850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or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RHCS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rkowi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xford, 1964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xford, 1984-88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New York, 1993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=36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=74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=69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.20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.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.97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78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y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0.7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--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1.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4076640"/>
            <a:ext cx="828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reas</a:t>
            </a:r>
            <a:r>
              <a:rPr b="1" lang="fr-FR" sz="44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inc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1916280"/>
            <a:ext cx="864216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a-analysis (Paulozzi, 199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idence has doubled in the United States and in Canada during the last 20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idence has doubled in various European countries (UK, Denmark) since the 7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92360" y="220968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isk facto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189000"/>
            <a:ext cx="89647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Before 199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219320"/>
            <a:ext cx="871380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w birth weight and premat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maternal BM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ech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esarean s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atments during pregnanc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œstradiol, œstrone, 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Swerdlow, 1983; Depue, 1984; Hjertkvist, 19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09:08:18Z</dcterms:created>
  <dc:creator>Thonneau Patrick</dc:creator>
  <dc:description/>
  <dc:language>en-US</dc:language>
  <cp:lastModifiedBy>eric</cp:lastModifiedBy>
  <dcterms:modified xsi:type="dcterms:W3CDTF">2004-06-10T21:24:05Z</dcterms:modified>
  <cp:revision>120</cp:revision>
  <dc:subject/>
  <dc:title>Diapositive 1</dc:title>
</cp:coreProperties>
</file>