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30.png" ContentType="image/png"/>
  <Override PartName="/ppt/media/image47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5.jpeg" ContentType="image/jpeg"/>
  <Override PartName="/ppt/media/image50.png" ContentType="image/png"/>
  <Override PartName="/ppt/media/image55.wmf" ContentType="image/x-wmf"/>
  <Override PartName="/ppt/media/image15.png" ContentType="image/png"/>
  <Override PartName="/ppt/media/image18.jpeg" ContentType="image/jpeg"/>
  <Override PartName="/ppt/media/image21.wmf" ContentType="image/x-wmf"/>
  <Override PartName="/ppt/media/image6.jpeg" ContentType="image/jpeg"/>
  <Override PartName="/ppt/media/image58.wmf" ContentType="image/x-wmf"/>
  <Override PartName="/ppt/media/image25.png" ContentType="image/png"/>
  <Override PartName="/ppt/media/image19.jpeg" ContentType="image/jpeg"/>
  <Override PartName="/ppt/media/image65.wmf" ContentType="image/x-wmf"/>
  <Override PartName="/ppt/media/image67.jpeg" ContentType="image/jpeg"/>
  <Override PartName="/ppt/media/image24.png" ContentType="image/png"/>
  <Override PartName="/ppt/media/image64.wmf" ContentType="image/x-wmf"/>
  <Override PartName="/ppt/media/image11.jpeg" ContentType="image/jpeg"/>
  <Override PartName="/ppt/media/image59.wmf" ContentType="image/x-wmf"/>
  <Override PartName="/ppt/media/image22.wmf" ContentType="image/x-wmf"/>
  <Override PartName="/ppt/media/image66.wmf" ContentType="image/x-wmf"/>
  <Override PartName="/ppt/media/image63.wmf" ContentType="image/x-wmf"/>
  <Override PartName="/ppt/media/image23.png" ContentType="image/png"/>
  <Override PartName="/ppt/media/image29.png" ContentType="image/png"/>
  <Override PartName="/ppt/media/image62.wmf" ContentType="image/x-wmf"/>
  <Override PartName="/ppt/media/image27.png" ContentType="image/png"/>
  <Override PartName="/ppt/media/image40.png" ContentType="image/png"/>
  <Override PartName="/ppt/media/image7.wmf" ContentType="image/x-wmf"/>
  <Override PartName="/ppt/media/image48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10.jpeg" ContentType="image/jpeg"/>
  <Override PartName="/ppt/media/image54.wmf" ContentType="image/x-wmf"/>
  <Override PartName="/ppt/media/image26.png" ContentType="image/png"/>
  <Override PartName="/ppt/media/image8.jpeg" ContentType="image/jpeg"/>
  <Override PartName="/ppt/media/image38.png" ContentType="image/png"/>
  <Override PartName="/ppt/media/image60.wmf" ContentType="image/x-wmf"/>
  <Override PartName="/ppt/media/image52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20.wmf" ContentType="image/x-wmf"/>
  <Override PartName="/ppt/media/image4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27DF-5E68-4CD8-8696-6CF170B72625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E9D8-6363-4DD5-838D-ED6DF9A31EC6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2" name=""/>
          <p:cNvSpPr/>
          <p:nvPr/>
        </p:nvSpPr>
        <p:spPr>
          <a:xfrm>
            <a:off x="388620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4B92-905F-4564-8CB1-077B5816168D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11320" y="793800"/>
            <a:ext cx="4637160" cy="3209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79480" y="4381560"/>
            <a:ext cx="5097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ECB5-EE33-4D97-AC1D-55AA87236BEB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879480" y="4381560"/>
            <a:ext cx="5097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ldImg"/>
          </p:nvPr>
        </p:nvSpPr>
        <p:spPr>
          <a:xfrm>
            <a:off x="1111320" y="793800"/>
            <a:ext cx="4637160" cy="320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017A-333F-4B04-9AFB-BC371BFCA0AC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ldImg"/>
          </p:nvPr>
        </p:nvSpPr>
        <p:spPr>
          <a:xfrm>
            <a:off x="1114560" y="797040"/>
            <a:ext cx="462888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C498-35A4-45A7-A77E-69138898D6F8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879480" y="4381560"/>
            <a:ext cx="5097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111320" y="793800"/>
            <a:ext cx="4637160" cy="320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526F-2CD8-45EE-AF9F-CACFF26A4B5B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14560" y="795240"/>
            <a:ext cx="4628880" cy="32068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879480" y="4381200"/>
            <a:ext cx="509760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7483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1040" y="4130640"/>
            <a:ext cx="7483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5760" y="198108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1040" y="413064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5760" y="413064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2409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41480" y="1981080"/>
            <a:ext cx="2409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1560" y="1981080"/>
            <a:ext cx="2409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1040" y="4130640"/>
            <a:ext cx="2409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41480" y="4130640"/>
            <a:ext cx="2409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1560" y="4130640"/>
            <a:ext cx="2409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1040" y="1981080"/>
            <a:ext cx="748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748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365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5760" y="1981080"/>
            <a:ext cx="365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1040" y="609120"/>
            <a:ext cx="748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760" y="1981080"/>
            <a:ext cx="365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1040" y="413064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365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5760" y="198108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5760" y="413064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5760" y="1981080"/>
            <a:ext cx="3651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1040" y="4130640"/>
            <a:ext cx="7483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1040" y="1981080"/>
            <a:ext cx="748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Palatino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085760" indent="-217080"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519920" indent="-217080">
              <a:spcBef>
                <a:spcPts val="799"/>
              </a:spcBef>
              <a:buClr>
                <a:srgbClr val="ffffff"/>
              </a:buClr>
              <a:buFont typeface="Palatino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pn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4.png"/><Relationship Id="rId33" Type="http://schemas.openxmlformats.org/officeDocument/2006/relationships/image" Target="../media/image44.png"/><Relationship Id="rId34" Type="http://schemas.openxmlformats.org/officeDocument/2006/relationships/image" Target="../media/image45.png"/><Relationship Id="rId35" Type="http://schemas.openxmlformats.org/officeDocument/2006/relationships/image" Target="../media/image44.png"/><Relationship Id="rId36" Type="http://schemas.openxmlformats.org/officeDocument/2006/relationships/image" Target="../media/image44.png"/><Relationship Id="rId37" Type="http://schemas.openxmlformats.org/officeDocument/2006/relationships/image" Target="../media/image44.png"/><Relationship Id="rId38" Type="http://schemas.openxmlformats.org/officeDocument/2006/relationships/image" Target="../media/image44.png"/><Relationship Id="rId39" Type="http://schemas.openxmlformats.org/officeDocument/2006/relationships/image" Target="../media/image45.png"/><Relationship Id="rId40" Type="http://schemas.openxmlformats.org/officeDocument/2006/relationships/image" Target="../media/image44.png"/><Relationship Id="rId41" Type="http://schemas.openxmlformats.org/officeDocument/2006/relationships/image" Target="../media/image44.png"/><Relationship Id="rId42" Type="http://schemas.openxmlformats.org/officeDocument/2006/relationships/image" Target="../media/image46.png"/><Relationship Id="rId43" Type="http://schemas.openxmlformats.org/officeDocument/2006/relationships/image" Target="../media/image47.png"/><Relationship Id="rId44" Type="http://schemas.openxmlformats.org/officeDocument/2006/relationships/image" Target="../media/image47.png"/><Relationship Id="rId45" Type="http://schemas.openxmlformats.org/officeDocument/2006/relationships/image" Target="../media/image47.png"/><Relationship Id="rId46" Type="http://schemas.openxmlformats.org/officeDocument/2006/relationships/image" Target="../media/image47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7.png"/><Relationship Id="rId50" Type="http://schemas.openxmlformats.org/officeDocument/2006/relationships/image" Target="../media/image47.png"/><Relationship Id="rId51" Type="http://schemas.openxmlformats.org/officeDocument/2006/relationships/image" Target="../media/image46.png"/><Relationship Id="rId52" Type="http://schemas.openxmlformats.org/officeDocument/2006/relationships/image" Target="../media/image47.png"/><Relationship Id="rId53" Type="http://schemas.openxmlformats.org/officeDocument/2006/relationships/image" Target="../media/image47.png"/><Relationship Id="rId54" Type="http://schemas.openxmlformats.org/officeDocument/2006/relationships/image" Target="../media/image46.png"/><Relationship Id="rId55" Type="http://schemas.openxmlformats.org/officeDocument/2006/relationships/image" Target="../media/image47.png"/><Relationship Id="rId56" Type="http://schemas.openxmlformats.org/officeDocument/2006/relationships/image" Target="../media/image47.png"/><Relationship Id="rId57" Type="http://schemas.openxmlformats.org/officeDocument/2006/relationships/image" Target="../media/image47.png"/><Relationship Id="rId58" Type="http://schemas.openxmlformats.org/officeDocument/2006/relationships/image" Target="../media/image46.png"/><Relationship Id="rId59" Type="http://schemas.openxmlformats.org/officeDocument/2006/relationships/image" Target="../media/image48.png"/><Relationship Id="rId60" Type="http://schemas.openxmlformats.org/officeDocument/2006/relationships/image" Target="../media/image48.png"/><Relationship Id="rId61" Type="http://schemas.openxmlformats.org/officeDocument/2006/relationships/image" Target="../media/image49.png"/><Relationship Id="rId62" Type="http://schemas.openxmlformats.org/officeDocument/2006/relationships/image" Target="../media/image50.png"/><Relationship Id="rId63" Type="http://schemas.openxmlformats.org/officeDocument/2006/relationships/image" Target="../media/image50.png"/><Relationship Id="rId64" Type="http://schemas.openxmlformats.org/officeDocument/2006/relationships/image" Target="../media/image50.png"/><Relationship Id="rId65" Type="http://schemas.openxmlformats.org/officeDocument/2006/relationships/image" Target="../media/image50.png"/><Relationship Id="rId66" Type="http://schemas.openxmlformats.org/officeDocument/2006/relationships/image" Target="../media/image50.png"/><Relationship Id="rId67" Type="http://schemas.openxmlformats.org/officeDocument/2006/relationships/image" Target="../media/image49.png"/><Relationship Id="rId68" Type="http://schemas.openxmlformats.org/officeDocument/2006/relationships/image" Target="../media/image49.png"/><Relationship Id="rId69" Type="http://schemas.openxmlformats.org/officeDocument/2006/relationships/image" Target="../media/image50.png"/><Relationship Id="rId70" Type="http://schemas.openxmlformats.org/officeDocument/2006/relationships/image" Target="../media/image51.png"/><Relationship Id="rId71" Type="http://schemas.openxmlformats.org/officeDocument/2006/relationships/image" Target="../media/image51.png"/><Relationship Id="rId72" Type="http://schemas.openxmlformats.org/officeDocument/2006/relationships/image" Target="../media/image51.png"/><Relationship Id="rId73" Type="http://schemas.openxmlformats.org/officeDocument/2006/relationships/image" Target="../media/image51.png"/><Relationship Id="rId74" Type="http://schemas.openxmlformats.org/officeDocument/2006/relationships/image" Target="../media/image52.png"/><Relationship Id="rId75" Type="http://schemas.openxmlformats.org/officeDocument/2006/relationships/image" Target="../media/image52.png"/><Relationship Id="rId76" Type="http://schemas.openxmlformats.org/officeDocument/2006/relationships/image" Target="../media/image53.png"/><Relationship Id="rId7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819520"/>
            <a:ext cx="9448920" cy="1523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The impact of endocrine disrupters on oocyte competenc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. Gandolfi, TA.L. Brevini and P. Poca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"/>
          <p:cNvSpPr/>
          <p:nvPr/>
        </p:nvSpPr>
        <p:spPr>
          <a:xfrm>
            <a:off x="12600" y="446040"/>
            <a:ext cx="9798120" cy="1254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REHNA Fertility Semina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7-9 May 2004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Kos Island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"/>
          <p:cNvSpPr/>
          <p:nvPr/>
        </p:nvSpPr>
        <p:spPr>
          <a:xfrm>
            <a:off x="12600" y="5459400"/>
            <a:ext cx="9720360" cy="1094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ffff"/>
                </a:solidFill>
                <a:latin typeface="Arial"/>
              </a:rPr>
              <a:t>Department of Anatomy of Domestic Animals</a:t>
            </a:r>
            <a:br>
              <a:rPr sz="2200"/>
            </a:br>
            <a:r>
              <a:rPr b="1" lang="en-GB" sz="2200" spc="-1" strike="noStrike">
                <a:solidFill>
                  <a:srgbClr val="00ffff"/>
                </a:solidFill>
                <a:latin typeface="Arial"/>
              </a:rPr>
              <a:t>University of Milan, Ital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9068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800" spc="-1" strike="noStrike">
                <a:solidFill>
                  <a:srgbClr val="fafd00"/>
                </a:solidFill>
                <a:latin typeface="Palatino"/>
              </a:rPr>
              <a:t>The importance of the oocyte</a:t>
            </a:r>
            <a:endParaRPr b="1" lang="en-US" sz="48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33412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1" lang="it-IT" sz="3600" spc="-1" strike="noStrike">
                <a:solidFill>
                  <a:srgbClr val="ffffff"/>
                </a:solidFill>
                <a:latin typeface="Palatino"/>
              </a:rPr>
              <a:t>Oocyte is exposed for a very long time and this can affect its developmental competence = the capacity of an oocyte to sustain embryonic development</a:t>
            </a: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24600" y="1447920"/>
            <a:ext cx="4476600" cy="307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47040" y="3809880"/>
            <a:ext cx="2268360" cy="266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7040" y="456840"/>
            <a:ext cx="93916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Palatino"/>
              </a:rPr>
              <a:t>Comparison between the developmental competence of in vivo and in vitro matured oocytes </a:t>
            </a:r>
            <a:endParaRPr b="1" lang="en-US" sz="32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99" name=""/>
          <p:cNvSpPr/>
          <p:nvPr/>
        </p:nvSpPr>
        <p:spPr>
          <a:xfrm>
            <a:off x="106200" y="6491160"/>
            <a:ext cx="593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rom Sirard &amp; Blondin,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Animal Reprod Scienc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1996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806400" y="2590920"/>
            <a:ext cx="139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00" y="1143000"/>
          <a:ext cx="9840960" cy="54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00" y="1143000"/>
                    <a:ext cx="98409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Which compounds should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we worry about?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39960" y="1676160"/>
            <a:ext cx="5118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hose persistent enough to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withstand the microbial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gradation processes in the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waste water treatment plants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r in the soil  leaving residues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f persistent compounds such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s: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6280" y="1671480"/>
            <a:ext cx="4168800" cy="2900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22560" y="4724280"/>
            <a:ext cx="7197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olychlorinated biphenyls (PCB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DT and DDT-related compounds (mainly DD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lastic monomers (e.g. bisphenol A, BP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ofteners (phthalates, such as DEHP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lame retardants (e.g. PBDE and TBBP-A)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11040" y="1981080"/>
            <a:ext cx="748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latino"/>
              </a:rPr>
              <a:t>The Experimental Model</a:t>
            </a: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7200" y="456840"/>
            <a:ext cx="74833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fafd00"/>
                </a:solidFill>
                <a:latin typeface="Book Antiqua"/>
              </a:rPr>
              <a:t>PCBs</a:t>
            </a:r>
            <a:endParaRPr b="1" lang="en-US" sz="5700" spc="-1" strike="noStrike">
              <a:solidFill>
                <a:srgbClr val="ffff00"/>
              </a:solidFill>
              <a:latin typeface="Palatino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2920" y="304920"/>
            <a:ext cx="2889000" cy="1679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86640" y="192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80880"/>
            <a:ext cx="748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191120"/>
            <a:ext cx="7483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PCBs are a family of 209 molecules present in the environment as a mixture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Book Antiqua"/>
              </a:rPr>
              <a:t>Aroclor-1254</a:t>
            </a: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, is a pool of more than 60 congeners, environmentally relevan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650700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98640" y="434340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1040" y="45684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Palatino"/>
              </a:rPr>
              <a:t>In vitro embryo production </a:t>
            </a:r>
            <a:endParaRPr b="1" lang="en-US" sz="40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748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Palatino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Palatino"/>
              </a:rPr>
              <a:t>Maturation (IVM)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Palatino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Palatino"/>
              </a:rPr>
              <a:t>Fertilization (IVF)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Palatino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Palatino"/>
              </a:rPr>
              <a:t>Culture (IVC)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7" name="oocytes" descr=""/>
          <p:cNvPicPr/>
          <p:nvPr/>
        </p:nvPicPr>
        <p:blipFill>
          <a:blip r:embed="rId2"/>
          <a:stretch/>
        </p:blipFill>
        <p:spPr>
          <a:xfrm>
            <a:off x="5035680" y="3340080"/>
            <a:ext cx="2558880" cy="1511280"/>
          </a:xfrm>
          <a:prstGeom prst="rect">
            <a:avLst/>
          </a:prstGeom>
          <a:ln w="0">
            <a:noFill/>
          </a:ln>
        </p:spPr>
      </p:pic>
      <p:pic>
        <p:nvPicPr>
          <p:cNvPr id="118" name="blastocyst2" descr=""/>
          <p:cNvPicPr/>
          <p:nvPr/>
        </p:nvPicPr>
        <p:blipFill>
          <a:blip r:embed="rId3"/>
          <a:stretch/>
        </p:blipFill>
        <p:spPr>
          <a:xfrm>
            <a:off x="6769080" y="4602240"/>
            <a:ext cx="2559240" cy="1890720"/>
          </a:xfrm>
          <a:prstGeom prst="rect">
            <a:avLst/>
          </a:prstGeom>
          <a:ln w="0">
            <a:noFill/>
          </a:ln>
        </p:spPr>
      </p:pic>
      <p:pic>
        <p:nvPicPr>
          <p:cNvPr id="119" name="CATTLE" descr=""/>
          <p:cNvPicPr/>
          <p:nvPr/>
        </p:nvPicPr>
        <p:blipFill>
          <a:blip r:embed="rId4"/>
          <a:stretch/>
        </p:blipFill>
        <p:spPr>
          <a:xfrm>
            <a:off x="5861160" y="4419720"/>
            <a:ext cx="3797280" cy="216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7680" y="5334120"/>
            <a:ext cx="9658440" cy="820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GV        MII        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Zygote</a:t>
            </a: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       2-4         8-16   </a:t>
            </a:r>
            <a:r>
              <a:rPr b="0" lang="it-IT" sz="2400" spc="-1" strike="noStrike">
                <a:solidFill>
                  <a:srgbClr val="ffff00"/>
                </a:solidFill>
                <a:latin typeface="Book Antiqua"/>
              </a:rPr>
              <a:t>Blastocyst</a:t>
            </a: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cells</a:t>
            </a: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        ce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337680"/>
            <a:ext cx="8420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Book Antiqua"/>
              </a:rPr>
              <a:t>In vitro Embryo Production:</a:t>
            </a:r>
            <a:br>
              <a:rPr sz="4400"/>
            </a:br>
            <a:r>
              <a:rPr b="0" lang="it-IT" sz="4400" spc="-1" strike="noStrike">
                <a:solidFill>
                  <a:srgbClr val="ffff00"/>
                </a:solidFill>
                <a:latin typeface="Book Antiqua"/>
              </a:rPr>
              <a:t>timing &amp; efficiency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22" name=""/>
          <p:cNvSpPr/>
          <p:nvPr/>
        </p:nvSpPr>
        <p:spPr>
          <a:xfrm>
            <a:off x="1562040" y="1835280"/>
            <a:ext cx="978480" cy="60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Book Antiqua"/>
              </a:rPr>
              <a:t>IVM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"/>
          <p:cNvSpPr/>
          <p:nvPr/>
        </p:nvSpPr>
        <p:spPr>
          <a:xfrm>
            <a:off x="2975040" y="1819440"/>
            <a:ext cx="810720" cy="60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Book Antiqua"/>
              </a:rPr>
              <a:t>IVF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"/>
          <p:cNvSpPr/>
          <p:nvPr/>
        </p:nvSpPr>
        <p:spPr>
          <a:xfrm>
            <a:off x="6027120" y="1819440"/>
            <a:ext cx="859680" cy="60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Book Antiqua"/>
              </a:rPr>
              <a:t>IVC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"/>
          <p:cNvSpPr/>
          <p:nvPr/>
        </p:nvSpPr>
        <p:spPr>
          <a:xfrm>
            <a:off x="1720800" y="2370240"/>
            <a:ext cx="797040" cy="45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24 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3039840" y="2371680"/>
            <a:ext cx="797040" cy="45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18 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2370240"/>
            <a:ext cx="1094400" cy="45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7 d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"/>
          <p:cNvSpPr/>
          <p:nvPr/>
        </p:nvSpPr>
        <p:spPr>
          <a:xfrm>
            <a:off x="6265800" y="3903840"/>
            <a:ext cx="0" cy="6076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"/>
          <p:cNvSpPr/>
          <p:nvPr/>
        </p:nvSpPr>
        <p:spPr>
          <a:xfrm>
            <a:off x="7572240" y="3903840"/>
            <a:ext cx="0" cy="6076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>
            <a:off x="3516480" y="3903840"/>
            <a:ext cx="0" cy="6076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3903840"/>
            <a:ext cx="0" cy="6076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66400" y="4033800"/>
            <a:ext cx="1295640" cy="1745280"/>
            <a:chOff x="266400" y="4033800"/>
            <a:chExt cx="1295640" cy="1745280"/>
          </a:xfrm>
        </p:grpSpPr>
        <p:sp>
          <p:nvSpPr>
            <p:cNvPr id="133" name=""/>
            <p:cNvSpPr/>
            <p:nvPr/>
          </p:nvSpPr>
          <p:spPr>
            <a:xfrm>
              <a:off x="266400" y="4033800"/>
              <a:ext cx="1295640" cy="11862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Book Antiqua"/>
                </a:rPr>
                <a:t>Success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Book Antiqua"/>
                </a:rPr>
                <a:t>Rate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Book Antiqua"/>
                </a:rPr>
                <a:t>(%)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7760" y="5324400"/>
              <a:ext cx="98928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Book Antiqua"/>
                </a:rPr>
                <a:t>Stage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41440" y="4724280"/>
            <a:ext cx="8872560" cy="51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5e305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f5e305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5e305"/>
                </a:solidFill>
                <a:latin typeface="Book Antiqua"/>
              </a:rPr>
              <a:t>  </a:t>
            </a:r>
            <a:r>
              <a:rPr b="0" lang="it-IT" sz="2800" spc="-1" strike="noStrike">
                <a:solidFill>
                  <a:srgbClr val="f5e305"/>
                </a:solidFill>
                <a:latin typeface="Book Antiqua"/>
              </a:rPr>
              <a:t>100       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95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90         80         60</a:t>
            </a:r>
            <a:r>
              <a:rPr b="0" lang="it-IT" sz="2800" spc="-1" strike="noStrike">
                <a:solidFill>
                  <a:srgbClr val="f5e305"/>
                </a:solidFill>
                <a:latin typeface="Book Antiqua"/>
              </a:rPr>
              <a:t>	</a:t>
            </a:r>
            <a:r>
              <a:rPr b="0" lang="it-IT" sz="2800" spc="-1" strike="noStrike">
                <a:solidFill>
                  <a:srgbClr val="f5e305"/>
                </a:solidFill>
                <a:latin typeface="Book Antiqua"/>
              </a:rPr>
              <a:t> 3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"/>
          <p:cNvSpPr/>
          <p:nvPr/>
        </p:nvSpPr>
        <p:spPr>
          <a:xfrm>
            <a:off x="1766880" y="2803680"/>
            <a:ext cx="960480" cy="0"/>
          </a:xfrm>
          <a:prstGeom prst="line">
            <a:avLst/>
          </a:prstGeom>
          <a:ln w="25560">
            <a:solidFill>
              <a:srgbClr val="f5e3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"/>
          <p:cNvSpPr/>
          <p:nvPr/>
        </p:nvSpPr>
        <p:spPr>
          <a:xfrm>
            <a:off x="3089160" y="2803680"/>
            <a:ext cx="906480" cy="0"/>
          </a:xfrm>
          <a:prstGeom prst="line">
            <a:avLst/>
          </a:prstGeom>
          <a:ln w="25560">
            <a:solidFill>
              <a:srgbClr val="f5e3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575240" y="2793600"/>
            <a:ext cx="4243320" cy="3240"/>
          </a:xfrm>
          <a:prstGeom prst="line">
            <a:avLst/>
          </a:prstGeom>
          <a:ln w="25560">
            <a:solidFill>
              <a:srgbClr val="f5e3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92360" y="3002040"/>
            <a:ext cx="1197000" cy="876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84320" y="2960640"/>
            <a:ext cx="6524640" cy="893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28760" y="3886200"/>
            <a:ext cx="0" cy="608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8832960" y="3886200"/>
            <a:ext cx="0" cy="608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1504440" y="3048120"/>
            <a:ext cx="1520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50d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Book Antiqua"/>
              </a:rPr>
              <a:t>PCB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Book Antiqua"/>
              </a:rPr>
              <a:t>expos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0120" y="152280"/>
            <a:ext cx="79549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afd00"/>
                </a:solidFill>
                <a:latin typeface="Book Antiqua"/>
              </a:rPr>
              <a:t>Experimental approach</a:t>
            </a:r>
            <a:endParaRPr b="1" lang="en-US" sz="51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45" name=""/>
          <p:cNvSpPr/>
          <p:nvPr/>
        </p:nvSpPr>
        <p:spPr>
          <a:xfrm>
            <a:off x="1155600" y="2057400"/>
            <a:ext cx="7925040" cy="2283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ook Antiqua"/>
              </a:rPr>
              <a:t>Evaluation of PCB impact on oocyte developmental competence using an in vitro system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1008720" y="4572000"/>
            <a:ext cx="84128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ook Antiqua"/>
              </a:rPr>
              <a:t>Study of the mechanisms involved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Book Antiqua"/>
              </a:rPr>
              <a:t>in  PCB toxicity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Palatino"/>
              </a:rPr>
              <a:t>PCB Effects on Oocyte Developmental Competence</a:t>
            </a:r>
            <a:endParaRPr b="1" lang="en-US" sz="40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1040" y="1981080"/>
            <a:ext cx="748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latino"/>
              </a:rPr>
              <a:t>The Results</a:t>
            </a: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28240"/>
            <a:ext cx="92455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fafd00"/>
                </a:solidFill>
                <a:latin typeface="Book Antiqua"/>
              </a:rPr>
              <a:t>Effect of A-1254 Exposure During IVM </a:t>
            </a:r>
            <a:br>
              <a:rPr sz="2600"/>
            </a:br>
            <a:r>
              <a:rPr b="1" lang="en-GB" sz="2600" spc="-1" strike="noStrike">
                <a:solidFill>
                  <a:srgbClr val="fafd00"/>
                </a:solidFill>
                <a:latin typeface="Book Antiqua"/>
              </a:rPr>
              <a:t>on Oocyte Maturation</a:t>
            </a:r>
            <a:endParaRPr b="1" lang="en-US" sz="2600" spc="-1" strike="noStrike">
              <a:solidFill>
                <a:srgbClr val="ffff00"/>
              </a:solidFill>
              <a:latin typeface="Palatino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95360" y="1219320"/>
          <a:ext cx="85024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219320"/>
                    <a:ext cx="85024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7320" y="3490920"/>
            <a:ext cx="393120" cy="393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8091360" y="6219720"/>
            <a:ext cx="107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ook Antiqua"/>
              </a:rPr>
              <a:t>µg/m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6172200"/>
            <a:ext cx="247680" cy="609480"/>
          </a:xfrm>
          <a:prstGeom prst="upArrow">
            <a:avLst>
              <a:gd name="adj1" fmla="val 50000"/>
              <a:gd name="adj2" fmla="val 615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5160" y="76320"/>
            <a:ext cx="748512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fafd00"/>
                </a:solidFill>
                <a:latin typeface="Book Antiqua"/>
              </a:rPr>
              <a:t>Aims and Outline</a:t>
            </a:r>
            <a:endParaRPr b="1" lang="en-US" sz="57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33600"/>
            <a:ext cx="9219960" cy="6753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Aim of our work is to study the possible effects of  environmental contaminants on female reproductive efficiency in farm anim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Studies can be performed in vivo or in vitr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We studied the effects on the oocyte since this cell is exposed to contaminants for the longest 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Description of our experimental mod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Consequences of exposure on in vitro develop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Possible mechanisms involv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53840" y="234720"/>
            <a:ext cx="659916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fafd00"/>
                </a:solidFill>
                <a:latin typeface="Palatino"/>
              </a:rPr>
              <a:t>Citotoxic effects of PCBs on cattle oocyte 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2987640" y="1673280"/>
            <a:ext cx="393084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970360" y="4127400"/>
            <a:ext cx="3943080" cy="247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915080" y="1677960"/>
            <a:ext cx="0" cy="4937040"/>
          </a:xfrm>
          <a:prstGeom prst="line">
            <a:avLst/>
          </a:prstGeom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"/>
          <p:cNvSpPr/>
          <p:nvPr/>
        </p:nvSpPr>
        <p:spPr>
          <a:xfrm>
            <a:off x="2976480" y="4129200"/>
            <a:ext cx="393696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"/>
          <p:cNvSpPr/>
          <p:nvPr/>
        </p:nvSpPr>
        <p:spPr>
          <a:xfrm>
            <a:off x="2989440" y="35784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35701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2995200" y="6110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"/>
          <p:cNvSpPr/>
          <p:nvPr/>
        </p:nvSpPr>
        <p:spPr>
          <a:xfrm>
            <a:off x="6459480" y="6124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"/>
          <p:cNvSpPr/>
          <p:nvPr/>
        </p:nvSpPr>
        <p:spPr>
          <a:xfrm>
            <a:off x="82440" y="2344680"/>
            <a:ext cx="2938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Cs morpholog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fter IV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6969240" y="3649680"/>
            <a:ext cx="2921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, a =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B, b = A-1254 10 µg/m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52560" y="4978440"/>
            <a:ext cx="285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ell viability t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800" spc="-1" strike="noStrike">
                <a:solidFill>
                  <a:srgbClr val="fafd00"/>
                </a:solidFill>
                <a:latin typeface="Book Antiqua"/>
              </a:rPr>
              <a:t>Effect of A-1254 exposure during IVM on fertilization</a:t>
            </a:r>
            <a:endParaRPr b="1" lang="en-US" sz="3800" spc="-1" strike="noStrike">
              <a:solidFill>
                <a:srgbClr val="ffff00"/>
              </a:solidFill>
              <a:latin typeface="Palatino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45720" y="2071800"/>
            <a:ext cx="8739720" cy="4633920"/>
            <a:chOff x="945720" y="2071800"/>
            <a:chExt cx="8739720" cy="4633920"/>
          </a:xfrm>
        </p:grpSpPr>
        <p:sp>
          <p:nvSpPr>
            <p:cNvPr id="169" name=""/>
            <p:cNvSpPr/>
            <p:nvPr/>
          </p:nvSpPr>
          <p:spPr>
            <a:xfrm>
              <a:off x="2007000" y="5545080"/>
              <a:ext cx="5559840" cy="117360"/>
            </a:xfrm>
            <a:custGeom>
              <a:avLst/>
              <a:gdLst/>
              <a:ahLst/>
              <a:rect l="l" t="t" r="r" b="b"/>
              <a:pathLst>
                <a:path w="3233" h="74">
                  <a:moveTo>
                    <a:pt x="0" y="74"/>
                  </a:moveTo>
                  <a:lnTo>
                    <a:pt x="106" y="0"/>
                  </a:lnTo>
                  <a:lnTo>
                    <a:pt x="3233" y="0"/>
                  </a:lnTo>
                  <a:lnTo>
                    <a:pt x="312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07000" y="5545080"/>
              <a:ext cx="5559840" cy="117360"/>
            </a:xfrm>
            <a:custGeom>
              <a:avLst/>
              <a:gdLst/>
              <a:ahLst/>
              <a:rect l="l" t="t" r="r" b="b"/>
              <a:pathLst>
                <a:path w="3233" h="74">
                  <a:moveTo>
                    <a:pt x="3233" y="0"/>
                  </a:moveTo>
                  <a:lnTo>
                    <a:pt x="3127" y="74"/>
                  </a:lnTo>
                  <a:lnTo>
                    <a:pt x="0" y="74"/>
                  </a:lnTo>
                  <a:lnTo>
                    <a:pt x="106" y="0"/>
                  </a:lnTo>
                  <a:lnTo>
                    <a:pt x="3233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55920" y="2525760"/>
              <a:ext cx="182160" cy="3136680"/>
            </a:xfrm>
            <a:custGeom>
              <a:avLst/>
              <a:gdLst/>
              <a:ahLst/>
              <a:rect l="l" t="t" r="r" b="b"/>
              <a:pathLst>
                <a:path w="106" h="1976">
                  <a:moveTo>
                    <a:pt x="0" y="1976"/>
                  </a:moveTo>
                  <a:lnTo>
                    <a:pt x="0" y="74"/>
                  </a:lnTo>
                  <a:lnTo>
                    <a:pt x="106" y="0"/>
                  </a:lnTo>
                  <a:lnTo>
                    <a:pt x="106" y="1902"/>
                  </a:lnTo>
                  <a:lnTo>
                    <a:pt x="0" y="1976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03200" y="2643120"/>
              <a:ext cx="252360" cy="301932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3200" y="2525760"/>
              <a:ext cx="434880" cy="117360"/>
            </a:xfrm>
            <a:custGeom>
              <a:avLst/>
              <a:gdLst/>
              <a:ahLst/>
              <a:rect l="l" t="t" r="r" b="b"/>
              <a:pathLst>
                <a:path w="253" h="74">
                  <a:moveTo>
                    <a:pt x="147" y="74"/>
                  </a:moveTo>
                  <a:lnTo>
                    <a:pt x="253" y="0"/>
                  </a:lnTo>
                  <a:lnTo>
                    <a:pt x="106" y="0"/>
                  </a:lnTo>
                  <a:lnTo>
                    <a:pt x="0" y="74"/>
                  </a:lnTo>
                  <a:lnTo>
                    <a:pt x="147" y="74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22680" y="4987800"/>
              <a:ext cx="168120" cy="674640"/>
            </a:xfrm>
            <a:custGeom>
              <a:avLst/>
              <a:gdLst/>
              <a:ahLst/>
              <a:rect l="l" t="t" r="r" b="b"/>
              <a:pathLst>
                <a:path w="98" h="425">
                  <a:moveTo>
                    <a:pt x="0" y="425"/>
                  </a:moveTo>
                  <a:lnTo>
                    <a:pt x="0" y="82"/>
                  </a:lnTo>
                  <a:lnTo>
                    <a:pt x="98" y="0"/>
                  </a:lnTo>
                  <a:lnTo>
                    <a:pt x="98" y="351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35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55920" y="5118120"/>
              <a:ext cx="266400" cy="544320"/>
            </a:xfrm>
            <a:prstGeom prst="rect">
              <a:avLst/>
            </a:prstGeom>
            <a:solidFill>
              <a:srgbClr val="6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55920" y="4987800"/>
              <a:ext cx="434880" cy="13032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155" y="82"/>
                  </a:moveTo>
                  <a:lnTo>
                    <a:pt x="253" y="0"/>
                  </a:lnTo>
                  <a:lnTo>
                    <a:pt x="106" y="0"/>
                  </a:lnTo>
                  <a:lnTo>
                    <a:pt x="0" y="82"/>
                  </a:lnTo>
                  <a:lnTo>
                    <a:pt x="155" y="82"/>
                  </a:lnTo>
                  <a:close/>
                </a:path>
              </a:pathLst>
            </a:custGeom>
            <a:solidFill>
              <a:srgbClr val="4f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5200" y="2708280"/>
              <a:ext cx="182160" cy="2954160"/>
            </a:xfrm>
            <a:custGeom>
              <a:avLst/>
              <a:gdLst/>
              <a:ahLst/>
              <a:rect l="l" t="t" r="r" b="b"/>
              <a:pathLst>
                <a:path w="106" h="1861">
                  <a:moveTo>
                    <a:pt x="0" y="1861"/>
                  </a:moveTo>
                  <a:lnTo>
                    <a:pt x="0" y="73"/>
                  </a:lnTo>
                  <a:lnTo>
                    <a:pt x="106" y="0"/>
                  </a:lnTo>
                  <a:lnTo>
                    <a:pt x="106" y="1787"/>
                  </a:lnTo>
                  <a:lnTo>
                    <a:pt x="0" y="1861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02480" y="2824200"/>
              <a:ext cx="252360" cy="283824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02480" y="2708280"/>
              <a:ext cx="434880" cy="115920"/>
            </a:xfrm>
            <a:custGeom>
              <a:avLst/>
              <a:gdLst/>
              <a:ahLst/>
              <a:rect l="l" t="t" r="r" b="b"/>
              <a:pathLst>
                <a:path w="253" h="73">
                  <a:moveTo>
                    <a:pt x="147" y="73"/>
                  </a:moveTo>
                  <a:lnTo>
                    <a:pt x="253" y="0"/>
                  </a:lnTo>
                  <a:lnTo>
                    <a:pt x="98" y="0"/>
                  </a:lnTo>
                  <a:lnTo>
                    <a:pt x="0" y="73"/>
                  </a:lnTo>
                  <a:lnTo>
                    <a:pt x="147" y="73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8280" y="4844880"/>
              <a:ext cx="181800" cy="817560"/>
            </a:xfrm>
            <a:custGeom>
              <a:avLst/>
              <a:gdLst/>
              <a:ahLst/>
              <a:rect l="l" t="t" r="r" b="b"/>
              <a:pathLst>
                <a:path w="106" h="515">
                  <a:moveTo>
                    <a:pt x="0" y="515"/>
                  </a:moveTo>
                  <a:lnTo>
                    <a:pt x="0" y="82"/>
                  </a:lnTo>
                  <a:lnTo>
                    <a:pt x="106" y="0"/>
                  </a:lnTo>
                  <a:lnTo>
                    <a:pt x="106" y="441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35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5200" y="4975200"/>
              <a:ext cx="253080" cy="687240"/>
            </a:xfrm>
            <a:prstGeom prst="rect">
              <a:avLst/>
            </a:prstGeom>
            <a:solidFill>
              <a:srgbClr val="6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55200" y="4844880"/>
              <a:ext cx="434880" cy="13032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147" y="82"/>
                  </a:moveTo>
                  <a:lnTo>
                    <a:pt x="253" y="0"/>
                  </a:lnTo>
                  <a:lnTo>
                    <a:pt x="106" y="0"/>
                  </a:lnTo>
                  <a:lnTo>
                    <a:pt x="0" y="82"/>
                  </a:lnTo>
                  <a:lnTo>
                    <a:pt x="147" y="82"/>
                  </a:lnTo>
                  <a:close/>
                </a:path>
              </a:pathLst>
            </a:custGeom>
            <a:solidFill>
              <a:srgbClr val="4f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52680" y="3213000"/>
              <a:ext cx="168120" cy="2449440"/>
            </a:xfrm>
            <a:custGeom>
              <a:avLst/>
              <a:gdLst/>
              <a:ahLst/>
              <a:rect l="l" t="t" r="r" b="b"/>
              <a:pathLst>
                <a:path w="98" h="1543">
                  <a:moveTo>
                    <a:pt x="0" y="1543"/>
                  </a:moveTo>
                  <a:lnTo>
                    <a:pt x="0" y="73"/>
                  </a:lnTo>
                  <a:lnTo>
                    <a:pt x="98" y="0"/>
                  </a:lnTo>
                  <a:lnTo>
                    <a:pt x="98" y="1469"/>
                  </a:lnTo>
                  <a:lnTo>
                    <a:pt x="0" y="1543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99960" y="3328920"/>
              <a:ext cx="252360" cy="233352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99960" y="3213000"/>
              <a:ext cx="420840" cy="115920"/>
            </a:xfrm>
            <a:custGeom>
              <a:avLst/>
              <a:gdLst/>
              <a:ahLst/>
              <a:rect l="l" t="t" r="r" b="b"/>
              <a:pathLst>
                <a:path w="245" h="73">
                  <a:moveTo>
                    <a:pt x="147" y="73"/>
                  </a:moveTo>
                  <a:lnTo>
                    <a:pt x="245" y="0"/>
                  </a:lnTo>
                  <a:lnTo>
                    <a:pt x="98" y="0"/>
                  </a:lnTo>
                  <a:lnTo>
                    <a:pt x="0" y="73"/>
                  </a:lnTo>
                  <a:lnTo>
                    <a:pt x="147" y="73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05400" y="4340160"/>
              <a:ext cx="182160" cy="1322280"/>
            </a:xfrm>
            <a:custGeom>
              <a:avLst/>
              <a:gdLst/>
              <a:ahLst/>
              <a:rect l="l" t="t" r="r" b="b"/>
              <a:pathLst>
                <a:path w="106" h="833">
                  <a:moveTo>
                    <a:pt x="0" y="833"/>
                  </a:moveTo>
                  <a:lnTo>
                    <a:pt x="0" y="74"/>
                  </a:lnTo>
                  <a:lnTo>
                    <a:pt x="106" y="0"/>
                  </a:lnTo>
                  <a:lnTo>
                    <a:pt x="106" y="759"/>
                  </a:lnTo>
                  <a:lnTo>
                    <a:pt x="0" y="833"/>
                  </a:lnTo>
                  <a:close/>
                </a:path>
              </a:pathLst>
            </a:custGeom>
            <a:solidFill>
              <a:srgbClr val="35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52680" y="4457880"/>
              <a:ext cx="252360" cy="1204560"/>
            </a:xfrm>
            <a:prstGeom prst="rect">
              <a:avLst/>
            </a:prstGeom>
            <a:solidFill>
              <a:srgbClr val="6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52680" y="4340160"/>
              <a:ext cx="434880" cy="117720"/>
            </a:xfrm>
            <a:custGeom>
              <a:avLst/>
              <a:gdLst/>
              <a:ahLst/>
              <a:rect l="l" t="t" r="r" b="b"/>
              <a:pathLst>
                <a:path w="253" h="74">
                  <a:moveTo>
                    <a:pt x="147" y="74"/>
                  </a:moveTo>
                  <a:lnTo>
                    <a:pt x="253" y="0"/>
                  </a:lnTo>
                  <a:lnTo>
                    <a:pt x="98" y="0"/>
                  </a:lnTo>
                  <a:lnTo>
                    <a:pt x="0" y="74"/>
                  </a:lnTo>
                  <a:lnTo>
                    <a:pt x="147" y="74"/>
                  </a:lnTo>
                  <a:close/>
                </a:path>
              </a:pathLst>
            </a:custGeom>
            <a:solidFill>
              <a:srgbClr val="4f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52680" y="3537000"/>
              <a:ext cx="168120" cy="2125440"/>
            </a:xfrm>
            <a:custGeom>
              <a:avLst/>
              <a:gdLst/>
              <a:ahLst/>
              <a:rect l="l" t="t" r="r" b="b"/>
              <a:pathLst>
                <a:path w="98" h="1339">
                  <a:moveTo>
                    <a:pt x="0" y="1339"/>
                  </a:moveTo>
                  <a:lnTo>
                    <a:pt x="0" y="82"/>
                  </a:lnTo>
                  <a:lnTo>
                    <a:pt x="98" y="0"/>
                  </a:lnTo>
                  <a:lnTo>
                    <a:pt x="98" y="1265"/>
                  </a:lnTo>
                  <a:lnTo>
                    <a:pt x="0" y="1339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85920" y="3666960"/>
              <a:ext cx="266400" cy="199548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85920" y="3537000"/>
              <a:ext cx="434880" cy="12996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155" y="82"/>
                  </a:moveTo>
                  <a:lnTo>
                    <a:pt x="253" y="0"/>
                  </a:lnTo>
                  <a:lnTo>
                    <a:pt x="106" y="0"/>
                  </a:lnTo>
                  <a:lnTo>
                    <a:pt x="0" y="82"/>
                  </a:lnTo>
                  <a:lnTo>
                    <a:pt x="155" y="82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05040" y="4197240"/>
              <a:ext cx="168120" cy="1465200"/>
            </a:xfrm>
            <a:custGeom>
              <a:avLst/>
              <a:gdLst/>
              <a:ahLst/>
              <a:rect l="l" t="t" r="r" b="b"/>
              <a:pathLst>
                <a:path w="98" h="923">
                  <a:moveTo>
                    <a:pt x="0" y="923"/>
                  </a:moveTo>
                  <a:lnTo>
                    <a:pt x="0" y="74"/>
                  </a:lnTo>
                  <a:lnTo>
                    <a:pt x="98" y="0"/>
                  </a:lnTo>
                  <a:lnTo>
                    <a:pt x="98" y="849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35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52680" y="4314960"/>
              <a:ext cx="252360" cy="1347480"/>
            </a:xfrm>
            <a:prstGeom prst="rect">
              <a:avLst/>
            </a:prstGeom>
            <a:solidFill>
              <a:srgbClr val="6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52680" y="4197240"/>
              <a:ext cx="420840" cy="117720"/>
            </a:xfrm>
            <a:custGeom>
              <a:avLst/>
              <a:gdLst/>
              <a:ahLst/>
              <a:rect l="l" t="t" r="r" b="b"/>
              <a:pathLst>
                <a:path w="245" h="74">
                  <a:moveTo>
                    <a:pt x="147" y="74"/>
                  </a:moveTo>
                  <a:lnTo>
                    <a:pt x="245" y="0"/>
                  </a:lnTo>
                  <a:lnTo>
                    <a:pt x="98" y="0"/>
                  </a:lnTo>
                  <a:lnTo>
                    <a:pt x="0" y="74"/>
                  </a:lnTo>
                  <a:lnTo>
                    <a:pt x="147" y="74"/>
                  </a:lnTo>
                  <a:close/>
                </a:path>
              </a:pathLst>
            </a:custGeom>
            <a:solidFill>
              <a:srgbClr val="4f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36120" y="3718080"/>
              <a:ext cx="182160" cy="1944360"/>
            </a:xfrm>
            <a:custGeom>
              <a:avLst/>
              <a:gdLst/>
              <a:ahLst/>
              <a:rect l="l" t="t" r="r" b="b"/>
              <a:pathLst>
                <a:path w="106" h="1225">
                  <a:moveTo>
                    <a:pt x="0" y="1225"/>
                  </a:moveTo>
                  <a:lnTo>
                    <a:pt x="0" y="82"/>
                  </a:lnTo>
                  <a:lnTo>
                    <a:pt x="106" y="0"/>
                  </a:lnTo>
                  <a:lnTo>
                    <a:pt x="106" y="1151"/>
                  </a:lnTo>
                  <a:lnTo>
                    <a:pt x="0" y="1225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83400" y="3848040"/>
              <a:ext cx="252360" cy="181440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83400" y="3718080"/>
              <a:ext cx="434880" cy="12996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147" y="82"/>
                  </a:moveTo>
                  <a:lnTo>
                    <a:pt x="253" y="0"/>
                  </a:lnTo>
                  <a:lnTo>
                    <a:pt x="106" y="0"/>
                  </a:lnTo>
                  <a:lnTo>
                    <a:pt x="0" y="82"/>
                  </a:lnTo>
                  <a:lnTo>
                    <a:pt x="147" y="82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880" y="4119480"/>
              <a:ext cx="168120" cy="1542960"/>
            </a:xfrm>
            <a:custGeom>
              <a:avLst/>
              <a:gdLst/>
              <a:ahLst/>
              <a:rect l="l" t="t" r="r" b="b"/>
              <a:pathLst>
                <a:path w="98" h="972">
                  <a:moveTo>
                    <a:pt x="0" y="972"/>
                  </a:moveTo>
                  <a:lnTo>
                    <a:pt x="0" y="82"/>
                  </a:lnTo>
                  <a:lnTo>
                    <a:pt x="98" y="0"/>
                  </a:lnTo>
                  <a:lnTo>
                    <a:pt x="98" y="898"/>
                  </a:lnTo>
                  <a:lnTo>
                    <a:pt x="0" y="972"/>
                  </a:lnTo>
                  <a:close/>
                </a:path>
              </a:pathLst>
            </a:custGeom>
            <a:solidFill>
              <a:srgbClr val="35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36120" y="4249800"/>
              <a:ext cx="266400" cy="1412640"/>
            </a:xfrm>
            <a:prstGeom prst="rect">
              <a:avLst/>
            </a:prstGeom>
            <a:solidFill>
              <a:srgbClr val="6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36120" y="4119480"/>
              <a:ext cx="434880" cy="13032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155" y="82"/>
                  </a:moveTo>
                  <a:lnTo>
                    <a:pt x="253" y="0"/>
                  </a:lnTo>
                  <a:lnTo>
                    <a:pt x="106" y="0"/>
                  </a:lnTo>
                  <a:lnTo>
                    <a:pt x="0" y="82"/>
                  </a:lnTo>
                  <a:lnTo>
                    <a:pt x="155" y="82"/>
                  </a:lnTo>
                  <a:close/>
                </a:path>
              </a:pathLst>
            </a:custGeom>
            <a:solidFill>
              <a:srgbClr val="4f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5400" y="3718080"/>
              <a:ext cx="182160" cy="1944360"/>
            </a:xfrm>
            <a:custGeom>
              <a:avLst/>
              <a:gdLst/>
              <a:ahLst/>
              <a:rect l="l" t="t" r="r" b="b"/>
              <a:pathLst>
                <a:path w="106" h="1225">
                  <a:moveTo>
                    <a:pt x="0" y="1225"/>
                  </a:moveTo>
                  <a:lnTo>
                    <a:pt x="0" y="82"/>
                  </a:lnTo>
                  <a:lnTo>
                    <a:pt x="106" y="0"/>
                  </a:lnTo>
                  <a:lnTo>
                    <a:pt x="106" y="1151"/>
                  </a:lnTo>
                  <a:lnTo>
                    <a:pt x="0" y="1225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2680" y="3848040"/>
              <a:ext cx="252360" cy="181440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2680" y="3718080"/>
              <a:ext cx="434880" cy="12996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147" y="82"/>
                  </a:moveTo>
                  <a:lnTo>
                    <a:pt x="253" y="0"/>
                  </a:lnTo>
                  <a:lnTo>
                    <a:pt x="98" y="0"/>
                  </a:lnTo>
                  <a:lnTo>
                    <a:pt x="0" y="82"/>
                  </a:lnTo>
                  <a:lnTo>
                    <a:pt x="147" y="82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8480" y="4119480"/>
              <a:ext cx="181800" cy="1542960"/>
            </a:xfrm>
            <a:custGeom>
              <a:avLst/>
              <a:gdLst/>
              <a:ahLst/>
              <a:rect l="l" t="t" r="r" b="b"/>
              <a:pathLst>
                <a:path w="106" h="972">
                  <a:moveTo>
                    <a:pt x="0" y="972"/>
                  </a:moveTo>
                  <a:lnTo>
                    <a:pt x="0" y="82"/>
                  </a:lnTo>
                  <a:lnTo>
                    <a:pt x="106" y="0"/>
                  </a:lnTo>
                  <a:lnTo>
                    <a:pt x="106" y="898"/>
                  </a:lnTo>
                  <a:lnTo>
                    <a:pt x="0" y="972"/>
                  </a:lnTo>
                  <a:close/>
                </a:path>
              </a:pathLst>
            </a:custGeom>
            <a:solidFill>
              <a:srgbClr val="35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35400" y="4249800"/>
              <a:ext cx="253080" cy="1412640"/>
            </a:xfrm>
            <a:prstGeom prst="rect">
              <a:avLst/>
            </a:prstGeom>
            <a:solidFill>
              <a:srgbClr val="6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5400" y="4119480"/>
              <a:ext cx="434880" cy="13032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147" y="82"/>
                  </a:moveTo>
                  <a:lnTo>
                    <a:pt x="253" y="0"/>
                  </a:lnTo>
                  <a:lnTo>
                    <a:pt x="106" y="0"/>
                  </a:lnTo>
                  <a:lnTo>
                    <a:pt x="0" y="82"/>
                  </a:lnTo>
                  <a:lnTo>
                    <a:pt x="147" y="82"/>
                  </a:lnTo>
                  <a:close/>
                </a:path>
              </a:pathLst>
            </a:custGeom>
            <a:solidFill>
              <a:srgbClr val="4f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007000" y="2382840"/>
              <a:ext cx="1800" cy="32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950120" y="5662440"/>
              <a:ext cx="56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950120" y="5299200"/>
              <a:ext cx="56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950120" y="4937040"/>
              <a:ext cx="56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950120" y="4573440"/>
              <a:ext cx="56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950120" y="4210200"/>
              <a:ext cx="56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950120" y="3848040"/>
              <a:ext cx="56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50120" y="3484440"/>
              <a:ext cx="56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950120" y="3122640"/>
              <a:ext cx="56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950120" y="2746440"/>
              <a:ext cx="56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950120" y="2382840"/>
              <a:ext cx="56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88120" y="55515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63200" y="51894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3200" y="482616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2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63200" y="446256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3200" y="41004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4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63200" y="37368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5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63200" y="33750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6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63200" y="30114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7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63200" y="26352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8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63200" y="22734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9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7000" y="5662440"/>
              <a:ext cx="5377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07000" y="5662440"/>
              <a:ext cx="1800" cy="5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06280" y="5662440"/>
              <a:ext cx="1800" cy="5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4120" y="5662440"/>
              <a:ext cx="1800" cy="5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03760" y="5662440"/>
              <a:ext cx="1440" cy="5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00880" y="5662440"/>
              <a:ext cx="1800" cy="5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86480" y="5662440"/>
              <a:ext cx="1800" cy="5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84320" y="5662440"/>
              <a:ext cx="1800" cy="5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06240" y="57722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3280" y="57722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0.0001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9440" y="57722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0.001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47840" y="5772240"/>
              <a:ext cx="42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0.01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87800" y="5772240"/>
              <a:ext cx="30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0.1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86440" y="57722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77000" y="2538360"/>
              <a:ext cx="250920" cy="23508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46640" y="2479680"/>
              <a:ext cx="1308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cf305"/>
                  </a:solidFill>
                  <a:latin typeface="Book Antiqua"/>
                </a:rPr>
                <a:t>Fertilized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7000" y="2916360"/>
              <a:ext cx="250920" cy="231480"/>
            </a:xfrm>
            <a:prstGeom prst="rect">
              <a:avLst/>
            </a:prstGeom>
            <a:solidFill>
              <a:srgbClr val="6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38360" y="2819520"/>
              <a:ext cx="174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cf305"/>
                  </a:solidFill>
                  <a:latin typeface="Book Antiqua"/>
                </a:rPr>
                <a:t>Polyspermic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96520" y="2209680"/>
              <a:ext cx="14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52240" y="2338560"/>
              <a:ext cx="14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00840" y="2895480"/>
              <a:ext cx="18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3320" y="330984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84000" y="34513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69600" y="34513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2320" y="4599000"/>
              <a:ext cx="18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29080" y="4495680"/>
              <a:ext cx="18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84520" y="39625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5320" y="383544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95680" y="380988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65800" y="38671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45720" y="2071800"/>
              <a:ext cx="410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Book Antiqua"/>
                </a:rPr>
                <a:t>%</a:t>
              </a:r>
              <a:endParaRPr b="0" lang="en-US" sz="2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8680" y="5716440"/>
              <a:ext cx="986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Book Antiqua"/>
                </a:rPr>
                <a:t>µg/ml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27400" y="6095880"/>
              <a:ext cx="247320" cy="609840"/>
            </a:xfrm>
            <a:prstGeom prst="upArrow">
              <a:avLst>
                <a:gd name="adj1" fmla="val 50000"/>
                <a:gd name="adj2" fmla="val 6164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1040" y="380520"/>
            <a:ext cx="74833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400" spc="-1" strike="noStrike">
                <a:solidFill>
                  <a:srgbClr val="fafd00"/>
                </a:solidFill>
                <a:latin typeface="Book Antiqua"/>
              </a:rPr>
              <a:t>Effect of A-1254 exposure during IVM on embryo cleavage</a:t>
            </a:r>
            <a:endParaRPr b="1" lang="en-US" sz="3400" spc="-1" strike="noStrike">
              <a:solidFill>
                <a:srgbClr val="ffff00"/>
              </a:solidFill>
              <a:latin typeface="Palatino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4920" y="1600200"/>
            <a:ext cx="8435880" cy="4181400"/>
            <a:chOff x="394920" y="1600200"/>
            <a:chExt cx="8435880" cy="4181400"/>
          </a:xfrm>
        </p:grpSpPr>
        <p:sp>
          <p:nvSpPr>
            <p:cNvPr id="263" name=""/>
            <p:cNvSpPr/>
            <p:nvPr/>
          </p:nvSpPr>
          <p:spPr>
            <a:xfrm>
              <a:off x="1454400" y="5197320"/>
              <a:ext cx="6366600" cy="203400"/>
            </a:xfrm>
            <a:custGeom>
              <a:avLst/>
              <a:gdLst/>
              <a:ahLst/>
              <a:rect l="l" t="t" r="r" b="b"/>
              <a:pathLst>
                <a:path w="3702" h="128">
                  <a:moveTo>
                    <a:pt x="0" y="128"/>
                  </a:moveTo>
                  <a:lnTo>
                    <a:pt x="159" y="0"/>
                  </a:lnTo>
                  <a:lnTo>
                    <a:pt x="3702" y="0"/>
                  </a:lnTo>
                  <a:lnTo>
                    <a:pt x="354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54400" y="5197320"/>
              <a:ext cx="6366600" cy="203400"/>
            </a:xfrm>
            <a:custGeom>
              <a:avLst/>
              <a:gdLst/>
              <a:ahLst/>
              <a:rect l="l" t="t" r="r" b="b"/>
              <a:pathLst>
                <a:path w="3702" h="128">
                  <a:moveTo>
                    <a:pt x="3702" y="0"/>
                  </a:moveTo>
                  <a:lnTo>
                    <a:pt x="3542" y="128"/>
                  </a:lnTo>
                  <a:lnTo>
                    <a:pt x="0" y="128"/>
                  </a:lnTo>
                  <a:lnTo>
                    <a:pt x="159" y="0"/>
                  </a:lnTo>
                  <a:lnTo>
                    <a:pt x="370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67920" y="1981080"/>
              <a:ext cx="273240" cy="3419640"/>
            </a:xfrm>
            <a:custGeom>
              <a:avLst/>
              <a:gdLst/>
              <a:ahLst/>
              <a:rect l="l" t="t" r="r" b="b"/>
              <a:pathLst>
                <a:path w="159" h="2154">
                  <a:moveTo>
                    <a:pt x="0" y="2154"/>
                  </a:moveTo>
                  <a:lnTo>
                    <a:pt x="0" y="120"/>
                  </a:lnTo>
                  <a:lnTo>
                    <a:pt x="159" y="0"/>
                  </a:lnTo>
                  <a:lnTo>
                    <a:pt x="159" y="2026"/>
                  </a:lnTo>
                  <a:lnTo>
                    <a:pt x="0" y="2154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5000" y="2171880"/>
              <a:ext cx="412920" cy="322884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55000" y="1981080"/>
              <a:ext cx="686160" cy="190800"/>
            </a:xfrm>
            <a:custGeom>
              <a:avLst/>
              <a:gdLst/>
              <a:ahLst/>
              <a:rect l="l" t="t" r="r" b="b"/>
              <a:pathLst>
                <a:path w="399" h="120">
                  <a:moveTo>
                    <a:pt x="240" y="120"/>
                  </a:moveTo>
                  <a:lnTo>
                    <a:pt x="399" y="0"/>
                  </a:lnTo>
                  <a:lnTo>
                    <a:pt x="160" y="0"/>
                  </a:lnTo>
                  <a:lnTo>
                    <a:pt x="0" y="120"/>
                  </a:lnTo>
                  <a:lnTo>
                    <a:pt x="240" y="120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82400" y="2044800"/>
              <a:ext cx="275040" cy="3355920"/>
            </a:xfrm>
            <a:custGeom>
              <a:avLst/>
              <a:gdLst/>
              <a:ahLst/>
              <a:rect l="l" t="t" r="r" b="b"/>
              <a:pathLst>
                <a:path w="160" h="2114">
                  <a:moveTo>
                    <a:pt x="0" y="2114"/>
                  </a:moveTo>
                  <a:lnTo>
                    <a:pt x="0" y="128"/>
                  </a:lnTo>
                  <a:lnTo>
                    <a:pt x="160" y="0"/>
                  </a:lnTo>
                  <a:lnTo>
                    <a:pt x="160" y="1986"/>
                  </a:lnTo>
                  <a:lnTo>
                    <a:pt x="0" y="2114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1280" y="2247840"/>
              <a:ext cx="410760" cy="315288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71280" y="2044800"/>
              <a:ext cx="686160" cy="203040"/>
            </a:xfrm>
            <a:custGeom>
              <a:avLst/>
              <a:gdLst/>
              <a:ahLst/>
              <a:rect l="l" t="t" r="r" b="b"/>
              <a:pathLst>
                <a:path w="399" h="128">
                  <a:moveTo>
                    <a:pt x="239" y="128"/>
                  </a:moveTo>
                  <a:lnTo>
                    <a:pt x="399" y="0"/>
                  </a:lnTo>
                  <a:lnTo>
                    <a:pt x="159" y="0"/>
                  </a:lnTo>
                  <a:lnTo>
                    <a:pt x="0" y="128"/>
                  </a:lnTo>
                  <a:lnTo>
                    <a:pt x="239" y="128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99400" y="2298600"/>
              <a:ext cx="273240" cy="3102120"/>
            </a:xfrm>
            <a:custGeom>
              <a:avLst/>
              <a:gdLst/>
              <a:ahLst/>
              <a:rect l="l" t="t" r="r" b="b"/>
              <a:pathLst>
                <a:path w="159" h="1954">
                  <a:moveTo>
                    <a:pt x="0" y="195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826"/>
                  </a:lnTo>
                  <a:lnTo>
                    <a:pt x="0" y="1954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86120" y="2487600"/>
              <a:ext cx="412920" cy="291312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86120" y="2298600"/>
              <a:ext cx="686160" cy="189000"/>
            </a:xfrm>
            <a:custGeom>
              <a:avLst/>
              <a:gdLst/>
              <a:ahLst/>
              <a:rect l="l" t="t" r="r" b="b"/>
              <a:pathLst>
                <a:path w="399" h="119">
                  <a:moveTo>
                    <a:pt x="240" y="119"/>
                  </a:moveTo>
                  <a:lnTo>
                    <a:pt x="399" y="0"/>
                  </a:lnTo>
                  <a:lnTo>
                    <a:pt x="160" y="0"/>
                  </a:lnTo>
                  <a:lnTo>
                    <a:pt x="0" y="119"/>
                  </a:lnTo>
                  <a:lnTo>
                    <a:pt x="240" y="119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13880" y="2475000"/>
              <a:ext cx="275040" cy="2925720"/>
            </a:xfrm>
            <a:custGeom>
              <a:avLst/>
              <a:gdLst/>
              <a:ahLst/>
              <a:rect l="l" t="t" r="r" b="b"/>
              <a:pathLst>
                <a:path w="160" h="1843">
                  <a:moveTo>
                    <a:pt x="0" y="1843"/>
                  </a:moveTo>
                  <a:lnTo>
                    <a:pt x="0" y="120"/>
                  </a:lnTo>
                  <a:lnTo>
                    <a:pt x="160" y="0"/>
                  </a:lnTo>
                  <a:lnTo>
                    <a:pt x="160" y="1715"/>
                  </a:lnTo>
                  <a:lnTo>
                    <a:pt x="0" y="1843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02760" y="2665440"/>
              <a:ext cx="410760" cy="273528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02760" y="2475000"/>
              <a:ext cx="686160" cy="190440"/>
            </a:xfrm>
            <a:custGeom>
              <a:avLst/>
              <a:gdLst/>
              <a:ahLst/>
              <a:rect l="l" t="t" r="r" b="b"/>
              <a:pathLst>
                <a:path w="399" h="120">
                  <a:moveTo>
                    <a:pt x="239" y="120"/>
                  </a:moveTo>
                  <a:lnTo>
                    <a:pt x="399" y="0"/>
                  </a:lnTo>
                  <a:lnTo>
                    <a:pt x="159" y="0"/>
                  </a:lnTo>
                  <a:lnTo>
                    <a:pt x="0" y="120"/>
                  </a:lnTo>
                  <a:lnTo>
                    <a:pt x="239" y="120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28720" y="2475000"/>
              <a:ext cx="275040" cy="2925720"/>
            </a:xfrm>
            <a:custGeom>
              <a:avLst/>
              <a:gdLst/>
              <a:ahLst/>
              <a:rect l="l" t="t" r="r" b="b"/>
              <a:pathLst>
                <a:path w="160" h="1843">
                  <a:moveTo>
                    <a:pt x="0" y="1843"/>
                  </a:moveTo>
                  <a:lnTo>
                    <a:pt x="0" y="120"/>
                  </a:lnTo>
                  <a:lnTo>
                    <a:pt x="160" y="0"/>
                  </a:lnTo>
                  <a:lnTo>
                    <a:pt x="160" y="1715"/>
                  </a:lnTo>
                  <a:lnTo>
                    <a:pt x="0" y="1843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17600" y="2665440"/>
              <a:ext cx="410760" cy="273528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17600" y="2475000"/>
              <a:ext cx="686160" cy="190440"/>
            </a:xfrm>
            <a:custGeom>
              <a:avLst/>
              <a:gdLst/>
              <a:ahLst/>
              <a:rect l="l" t="t" r="r" b="b"/>
              <a:pathLst>
                <a:path w="399" h="120">
                  <a:moveTo>
                    <a:pt x="239" y="120"/>
                  </a:moveTo>
                  <a:lnTo>
                    <a:pt x="399" y="0"/>
                  </a:lnTo>
                  <a:lnTo>
                    <a:pt x="160" y="0"/>
                  </a:lnTo>
                  <a:lnTo>
                    <a:pt x="0" y="120"/>
                  </a:lnTo>
                  <a:lnTo>
                    <a:pt x="239" y="120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45000" y="2614680"/>
              <a:ext cx="273240" cy="2786040"/>
            </a:xfrm>
            <a:custGeom>
              <a:avLst/>
              <a:gdLst/>
              <a:ahLst/>
              <a:rect l="l" t="t" r="r" b="b"/>
              <a:pathLst>
                <a:path w="159" h="1755">
                  <a:moveTo>
                    <a:pt x="0" y="1755"/>
                  </a:moveTo>
                  <a:lnTo>
                    <a:pt x="0" y="120"/>
                  </a:lnTo>
                  <a:lnTo>
                    <a:pt x="159" y="0"/>
                  </a:lnTo>
                  <a:lnTo>
                    <a:pt x="159" y="1627"/>
                  </a:lnTo>
                  <a:lnTo>
                    <a:pt x="0" y="1755"/>
                  </a:lnTo>
                  <a:close/>
                </a:path>
              </a:pathLst>
            </a:custGeom>
            <a:solidFill>
              <a:srgbClr val="105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33880" y="2805120"/>
              <a:ext cx="410760" cy="2595600"/>
            </a:xfrm>
            <a:prstGeom prst="rect">
              <a:avLst/>
            </a:prstGeom>
            <a:solidFill>
              <a:srgbClr val="1fb7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33880" y="2614680"/>
              <a:ext cx="684360" cy="190440"/>
            </a:xfrm>
            <a:custGeom>
              <a:avLst/>
              <a:gdLst/>
              <a:ahLst/>
              <a:rect l="l" t="t" r="r" b="b"/>
              <a:pathLst>
                <a:path w="398" h="120">
                  <a:moveTo>
                    <a:pt x="239" y="120"/>
                  </a:moveTo>
                  <a:lnTo>
                    <a:pt x="398" y="0"/>
                  </a:lnTo>
                  <a:lnTo>
                    <a:pt x="159" y="0"/>
                  </a:lnTo>
                  <a:lnTo>
                    <a:pt x="0" y="120"/>
                  </a:lnTo>
                  <a:lnTo>
                    <a:pt x="239" y="120"/>
                  </a:lnTo>
                  <a:close/>
                </a:path>
              </a:pathLst>
            </a:custGeom>
            <a:solidFill>
              <a:srgbClr val="17890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454400" y="1854000"/>
              <a:ext cx="1440" cy="354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399320" y="5400720"/>
              <a:ext cx="54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399320" y="5046840"/>
              <a:ext cx="54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399320" y="4691160"/>
              <a:ext cx="54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399320" y="4336920"/>
              <a:ext cx="54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399320" y="3983040"/>
              <a:ext cx="54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399320" y="3627360"/>
              <a:ext cx="54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399320" y="3273480"/>
              <a:ext cx="54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399320" y="2917800"/>
              <a:ext cx="54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399320" y="2563920"/>
              <a:ext cx="54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399320" y="2209680"/>
              <a:ext cx="54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399320" y="1854360"/>
              <a:ext cx="54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40920" y="529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16720" y="4937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6720" y="45831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16720" y="4227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16720" y="3873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720" y="3519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16720" y="3164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16720" y="2809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16720" y="245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16720" y="2100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2520" y="17463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54400" y="5400720"/>
              <a:ext cx="60915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54400" y="540072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68880" y="540072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85520" y="540072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0000" y="540072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16640" y="540072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31480" y="540072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46320" y="540072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13400" y="55069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51760" y="5506920"/>
              <a:ext cx="63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0.0001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23480" y="5506920"/>
              <a:ext cx="51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0.001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7800" y="550692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0.01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77000" y="5506920"/>
              <a:ext cx="2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0.1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90840" y="55069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72800" y="1600200"/>
              <a:ext cx="15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2720" y="1650960"/>
              <a:ext cx="15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88160" y="1890720"/>
              <a:ext cx="19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87880" y="204300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16400" y="2055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74440" y="2055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4920" y="3338640"/>
              <a:ext cx="455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Book Antiqua"/>
                </a:rPr>
                <a:t>%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78440" y="5411880"/>
              <a:ext cx="1152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Book Antiqua"/>
                </a:rPr>
                <a:t>µg/ml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879720" y="5943600"/>
            <a:ext cx="247680" cy="609480"/>
          </a:xfrm>
          <a:prstGeom prst="upArrow">
            <a:avLst>
              <a:gd name="adj1" fmla="val 50000"/>
              <a:gd name="adj2" fmla="val 615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1040" y="456840"/>
            <a:ext cx="74833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400" spc="-1" strike="noStrike">
                <a:solidFill>
                  <a:srgbClr val="fafd00"/>
                </a:solidFill>
                <a:latin typeface="Book Antiqua"/>
              </a:rPr>
              <a:t>Effect of A-1254 exposure during IVM on embryo development</a:t>
            </a:r>
            <a:endParaRPr b="1" lang="en-US" sz="3400" spc="-1" strike="noStrike">
              <a:solidFill>
                <a:srgbClr val="ffff00"/>
              </a:solidFill>
              <a:latin typeface="Palatino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80680" y="2514600"/>
            <a:ext cx="9097560" cy="3563640"/>
            <a:chOff x="580680" y="2514600"/>
            <a:chExt cx="9097560" cy="3563640"/>
          </a:xfrm>
        </p:grpSpPr>
        <p:sp>
          <p:nvSpPr>
            <p:cNvPr id="331" name=""/>
            <p:cNvSpPr/>
            <p:nvPr/>
          </p:nvSpPr>
          <p:spPr>
            <a:xfrm>
              <a:off x="1669320" y="5559480"/>
              <a:ext cx="6416280" cy="136440"/>
            </a:xfrm>
            <a:custGeom>
              <a:avLst/>
              <a:gdLst/>
              <a:ahLst/>
              <a:rect l="l" t="t" r="r" b="b"/>
              <a:pathLst>
                <a:path w="3731" h="86">
                  <a:moveTo>
                    <a:pt x="0" y="86"/>
                  </a:moveTo>
                  <a:lnTo>
                    <a:pt x="120" y="0"/>
                  </a:lnTo>
                  <a:lnTo>
                    <a:pt x="3731" y="0"/>
                  </a:lnTo>
                  <a:lnTo>
                    <a:pt x="3612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69320" y="5559480"/>
              <a:ext cx="6416280" cy="136440"/>
            </a:xfrm>
            <a:custGeom>
              <a:avLst/>
              <a:gdLst/>
              <a:ahLst/>
              <a:rect l="l" t="t" r="r" b="b"/>
              <a:pathLst>
                <a:path w="3731" h="86">
                  <a:moveTo>
                    <a:pt x="3731" y="0"/>
                  </a:moveTo>
                  <a:lnTo>
                    <a:pt x="3612" y="86"/>
                  </a:lnTo>
                  <a:lnTo>
                    <a:pt x="0" y="86"/>
                  </a:lnTo>
                  <a:lnTo>
                    <a:pt x="120" y="0"/>
                  </a:lnTo>
                  <a:lnTo>
                    <a:pt x="3731" y="0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83040" y="3135240"/>
              <a:ext cx="204480" cy="2560680"/>
            </a:xfrm>
            <a:custGeom>
              <a:avLst/>
              <a:gdLst/>
              <a:ahLst/>
              <a:rect l="l" t="t" r="r" b="b"/>
              <a:pathLst>
                <a:path w="119" h="1613">
                  <a:moveTo>
                    <a:pt x="0" y="1613"/>
                  </a:moveTo>
                  <a:lnTo>
                    <a:pt x="0" y="93"/>
                  </a:lnTo>
                  <a:lnTo>
                    <a:pt x="119" y="0"/>
                  </a:lnTo>
                  <a:lnTo>
                    <a:pt x="119" y="1527"/>
                  </a:lnTo>
                  <a:lnTo>
                    <a:pt x="0" y="1613"/>
                  </a:lnTo>
                  <a:close/>
                </a:path>
              </a:pathLst>
            </a:custGeom>
            <a:solidFill>
              <a:srgbClr val="808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85680" y="3282840"/>
              <a:ext cx="297360" cy="2413080"/>
            </a:xfrm>
            <a:prstGeom prst="rect">
              <a:avLst/>
            </a:prstGeom>
            <a:solidFill>
              <a:srgbClr val="ffff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85680" y="3135240"/>
              <a:ext cx="502200" cy="147600"/>
            </a:xfrm>
            <a:custGeom>
              <a:avLst/>
              <a:gdLst/>
              <a:ahLst/>
              <a:rect l="l" t="t" r="r" b="b"/>
              <a:pathLst>
                <a:path w="292" h="93">
                  <a:moveTo>
                    <a:pt x="173" y="93"/>
                  </a:moveTo>
                  <a:lnTo>
                    <a:pt x="292" y="0"/>
                  </a:lnTo>
                  <a:lnTo>
                    <a:pt x="120" y="0"/>
                  </a:lnTo>
                  <a:lnTo>
                    <a:pt x="0" y="93"/>
                  </a:lnTo>
                  <a:lnTo>
                    <a:pt x="173" y="93"/>
                  </a:lnTo>
                  <a:close/>
                </a:path>
              </a:pathLst>
            </a:custGeom>
            <a:solidFill>
              <a:srgbClr val="bfbf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79320" y="2967120"/>
              <a:ext cx="206280" cy="2728800"/>
            </a:xfrm>
            <a:custGeom>
              <a:avLst/>
              <a:gdLst/>
              <a:ahLst/>
              <a:rect l="l" t="t" r="r" b="b"/>
              <a:pathLst>
                <a:path w="120" h="1719">
                  <a:moveTo>
                    <a:pt x="0" y="1719"/>
                  </a:moveTo>
                  <a:lnTo>
                    <a:pt x="0" y="93"/>
                  </a:lnTo>
                  <a:lnTo>
                    <a:pt x="120" y="0"/>
                  </a:lnTo>
                  <a:lnTo>
                    <a:pt x="120" y="1633"/>
                  </a:lnTo>
                  <a:lnTo>
                    <a:pt x="0" y="1719"/>
                  </a:lnTo>
                  <a:close/>
                </a:path>
              </a:pathLst>
            </a:custGeom>
            <a:solidFill>
              <a:srgbClr val="35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83040" y="3114720"/>
              <a:ext cx="295920" cy="2581200"/>
            </a:xfrm>
            <a:prstGeom prst="rect">
              <a:avLst/>
            </a:prstGeom>
            <a:solidFill>
              <a:srgbClr val="69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83040" y="2967120"/>
              <a:ext cx="502200" cy="147600"/>
            </a:xfrm>
            <a:custGeom>
              <a:avLst/>
              <a:gdLst/>
              <a:ahLst/>
              <a:rect l="l" t="t" r="r" b="b"/>
              <a:pathLst>
                <a:path w="292" h="93">
                  <a:moveTo>
                    <a:pt x="172" y="93"/>
                  </a:moveTo>
                  <a:lnTo>
                    <a:pt x="292" y="0"/>
                  </a:lnTo>
                  <a:lnTo>
                    <a:pt x="119" y="0"/>
                  </a:lnTo>
                  <a:lnTo>
                    <a:pt x="0" y="93"/>
                  </a:lnTo>
                  <a:lnTo>
                    <a:pt x="172" y="93"/>
                  </a:lnTo>
                  <a:close/>
                </a:path>
              </a:pathLst>
            </a:custGeom>
            <a:solidFill>
              <a:srgbClr val="4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22000" y="3135240"/>
              <a:ext cx="204480" cy="2560680"/>
            </a:xfrm>
            <a:custGeom>
              <a:avLst/>
              <a:gdLst/>
              <a:ahLst/>
              <a:rect l="l" t="t" r="r" b="b"/>
              <a:pathLst>
                <a:path w="119" h="1613">
                  <a:moveTo>
                    <a:pt x="0" y="1613"/>
                  </a:moveTo>
                  <a:lnTo>
                    <a:pt x="0" y="93"/>
                  </a:lnTo>
                  <a:lnTo>
                    <a:pt x="119" y="0"/>
                  </a:lnTo>
                  <a:lnTo>
                    <a:pt x="119" y="1527"/>
                  </a:lnTo>
                  <a:lnTo>
                    <a:pt x="0" y="1613"/>
                  </a:lnTo>
                  <a:close/>
                </a:path>
              </a:pathLst>
            </a:custGeom>
            <a:solidFill>
              <a:srgbClr val="808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24640" y="3282840"/>
              <a:ext cx="297360" cy="2413080"/>
            </a:xfrm>
            <a:prstGeom prst="rect">
              <a:avLst/>
            </a:prstGeom>
            <a:solidFill>
              <a:srgbClr val="ffff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24640" y="3135240"/>
              <a:ext cx="502200" cy="147600"/>
            </a:xfrm>
            <a:custGeom>
              <a:avLst/>
              <a:gdLst/>
              <a:ahLst/>
              <a:rect l="l" t="t" r="r" b="b"/>
              <a:pathLst>
                <a:path w="292" h="93">
                  <a:moveTo>
                    <a:pt x="173" y="93"/>
                  </a:moveTo>
                  <a:lnTo>
                    <a:pt x="292" y="0"/>
                  </a:lnTo>
                  <a:lnTo>
                    <a:pt x="120" y="0"/>
                  </a:lnTo>
                  <a:lnTo>
                    <a:pt x="0" y="93"/>
                  </a:lnTo>
                  <a:lnTo>
                    <a:pt x="173" y="93"/>
                  </a:lnTo>
                  <a:close/>
                </a:path>
              </a:pathLst>
            </a:custGeom>
            <a:solidFill>
              <a:srgbClr val="bfbf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19720" y="2882880"/>
              <a:ext cx="204120" cy="2813040"/>
            </a:xfrm>
            <a:custGeom>
              <a:avLst/>
              <a:gdLst/>
              <a:ahLst/>
              <a:rect l="l" t="t" r="r" b="b"/>
              <a:pathLst>
                <a:path w="119" h="1772">
                  <a:moveTo>
                    <a:pt x="0" y="1772"/>
                  </a:moveTo>
                  <a:lnTo>
                    <a:pt x="0" y="93"/>
                  </a:lnTo>
                  <a:lnTo>
                    <a:pt x="119" y="0"/>
                  </a:lnTo>
                  <a:lnTo>
                    <a:pt x="119" y="1686"/>
                  </a:lnTo>
                  <a:lnTo>
                    <a:pt x="0" y="1772"/>
                  </a:lnTo>
                  <a:close/>
                </a:path>
              </a:pathLst>
            </a:custGeom>
            <a:solidFill>
              <a:srgbClr val="35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22000" y="3030480"/>
              <a:ext cx="297360" cy="2665440"/>
            </a:xfrm>
            <a:prstGeom prst="rect">
              <a:avLst/>
            </a:prstGeom>
            <a:solidFill>
              <a:srgbClr val="69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22000" y="2882880"/>
              <a:ext cx="501840" cy="147600"/>
            </a:xfrm>
            <a:custGeom>
              <a:avLst/>
              <a:gdLst/>
              <a:ahLst/>
              <a:rect l="l" t="t" r="r" b="b"/>
              <a:pathLst>
                <a:path w="292" h="93">
                  <a:moveTo>
                    <a:pt x="173" y="93"/>
                  </a:moveTo>
                  <a:lnTo>
                    <a:pt x="292" y="0"/>
                  </a:lnTo>
                  <a:lnTo>
                    <a:pt x="119" y="0"/>
                  </a:lnTo>
                  <a:lnTo>
                    <a:pt x="0" y="93"/>
                  </a:lnTo>
                  <a:lnTo>
                    <a:pt x="173" y="93"/>
                  </a:lnTo>
                  <a:close/>
                </a:path>
              </a:pathLst>
            </a:custGeom>
            <a:solidFill>
              <a:srgbClr val="4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0600" y="4137120"/>
              <a:ext cx="206280" cy="1558800"/>
            </a:xfrm>
            <a:custGeom>
              <a:avLst/>
              <a:gdLst/>
              <a:ahLst/>
              <a:rect l="l" t="t" r="r" b="b"/>
              <a:pathLst>
                <a:path w="120" h="982">
                  <a:moveTo>
                    <a:pt x="0" y="982"/>
                  </a:moveTo>
                  <a:lnTo>
                    <a:pt x="0" y="92"/>
                  </a:lnTo>
                  <a:lnTo>
                    <a:pt x="120" y="0"/>
                  </a:lnTo>
                  <a:lnTo>
                    <a:pt x="120" y="896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08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63240" y="4282920"/>
              <a:ext cx="297360" cy="1413000"/>
            </a:xfrm>
            <a:prstGeom prst="rect">
              <a:avLst/>
            </a:prstGeom>
            <a:solidFill>
              <a:srgbClr val="ffff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63240" y="4137120"/>
              <a:ext cx="503640" cy="145800"/>
            </a:xfrm>
            <a:custGeom>
              <a:avLst/>
              <a:gdLst/>
              <a:ahLst/>
              <a:rect l="l" t="t" r="r" b="b"/>
              <a:pathLst>
                <a:path w="293" h="92">
                  <a:moveTo>
                    <a:pt x="173" y="92"/>
                  </a:moveTo>
                  <a:lnTo>
                    <a:pt x="293" y="0"/>
                  </a:lnTo>
                  <a:lnTo>
                    <a:pt x="120" y="0"/>
                  </a:lnTo>
                  <a:lnTo>
                    <a:pt x="0" y="92"/>
                  </a:lnTo>
                  <a:lnTo>
                    <a:pt x="173" y="92"/>
                  </a:lnTo>
                  <a:close/>
                </a:path>
              </a:pathLst>
            </a:custGeom>
            <a:solidFill>
              <a:srgbClr val="bfbf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58320" y="3882960"/>
              <a:ext cx="194040" cy="1812960"/>
            </a:xfrm>
            <a:custGeom>
              <a:avLst/>
              <a:gdLst/>
              <a:ahLst/>
              <a:rect l="l" t="t" r="r" b="b"/>
              <a:pathLst>
                <a:path w="113" h="1142">
                  <a:moveTo>
                    <a:pt x="0" y="1142"/>
                  </a:moveTo>
                  <a:lnTo>
                    <a:pt x="0" y="93"/>
                  </a:lnTo>
                  <a:lnTo>
                    <a:pt x="113" y="0"/>
                  </a:lnTo>
                  <a:lnTo>
                    <a:pt x="113" y="1056"/>
                  </a:lnTo>
                  <a:lnTo>
                    <a:pt x="0" y="1142"/>
                  </a:lnTo>
                  <a:close/>
                </a:path>
              </a:pathLst>
            </a:custGeom>
            <a:solidFill>
              <a:srgbClr val="35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0600" y="4030560"/>
              <a:ext cx="297360" cy="1665360"/>
            </a:xfrm>
            <a:prstGeom prst="rect">
              <a:avLst/>
            </a:prstGeom>
            <a:solidFill>
              <a:srgbClr val="69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60600" y="3882960"/>
              <a:ext cx="491760" cy="147600"/>
            </a:xfrm>
            <a:custGeom>
              <a:avLst/>
              <a:gdLst/>
              <a:ahLst/>
              <a:rect l="l" t="t" r="r" b="b"/>
              <a:pathLst>
                <a:path w="286" h="93">
                  <a:moveTo>
                    <a:pt x="173" y="93"/>
                  </a:moveTo>
                  <a:lnTo>
                    <a:pt x="286" y="0"/>
                  </a:lnTo>
                  <a:lnTo>
                    <a:pt x="120" y="0"/>
                  </a:lnTo>
                  <a:lnTo>
                    <a:pt x="0" y="93"/>
                  </a:lnTo>
                  <a:lnTo>
                    <a:pt x="173" y="93"/>
                  </a:lnTo>
                  <a:close/>
                </a:path>
              </a:pathLst>
            </a:custGeom>
            <a:solidFill>
              <a:srgbClr val="4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89120" y="4305240"/>
              <a:ext cx="204480" cy="1390680"/>
            </a:xfrm>
            <a:custGeom>
              <a:avLst/>
              <a:gdLst/>
              <a:ahLst/>
              <a:rect l="l" t="t" r="r" b="b"/>
              <a:pathLst>
                <a:path w="119" h="876">
                  <a:moveTo>
                    <a:pt x="0" y="876"/>
                  </a:moveTo>
                  <a:lnTo>
                    <a:pt x="0" y="93"/>
                  </a:lnTo>
                  <a:lnTo>
                    <a:pt x="119" y="0"/>
                  </a:lnTo>
                  <a:lnTo>
                    <a:pt x="119" y="790"/>
                  </a:lnTo>
                  <a:lnTo>
                    <a:pt x="0" y="876"/>
                  </a:lnTo>
                  <a:close/>
                </a:path>
              </a:pathLst>
            </a:custGeom>
            <a:solidFill>
              <a:srgbClr val="808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03640" y="4452840"/>
              <a:ext cx="285120" cy="1243080"/>
            </a:xfrm>
            <a:prstGeom prst="rect">
              <a:avLst/>
            </a:prstGeom>
            <a:solidFill>
              <a:srgbClr val="ffff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03640" y="4305240"/>
              <a:ext cx="489960" cy="147600"/>
            </a:xfrm>
            <a:custGeom>
              <a:avLst/>
              <a:gdLst/>
              <a:ahLst/>
              <a:rect l="l" t="t" r="r" b="b"/>
              <a:pathLst>
                <a:path w="285" h="93">
                  <a:moveTo>
                    <a:pt x="166" y="93"/>
                  </a:moveTo>
                  <a:lnTo>
                    <a:pt x="285" y="0"/>
                  </a:lnTo>
                  <a:lnTo>
                    <a:pt x="113" y="0"/>
                  </a:lnTo>
                  <a:lnTo>
                    <a:pt x="0" y="93"/>
                  </a:lnTo>
                  <a:lnTo>
                    <a:pt x="166" y="93"/>
                  </a:lnTo>
                  <a:close/>
                </a:path>
              </a:pathLst>
            </a:custGeom>
            <a:solidFill>
              <a:srgbClr val="bfbf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85040" y="3882960"/>
              <a:ext cx="206280" cy="1812960"/>
            </a:xfrm>
            <a:custGeom>
              <a:avLst/>
              <a:gdLst/>
              <a:ahLst/>
              <a:rect l="l" t="t" r="r" b="b"/>
              <a:pathLst>
                <a:path w="120" h="1142">
                  <a:moveTo>
                    <a:pt x="0" y="1142"/>
                  </a:moveTo>
                  <a:lnTo>
                    <a:pt x="0" y="93"/>
                  </a:lnTo>
                  <a:lnTo>
                    <a:pt x="120" y="0"/>
                  </a:lnTo>
                  <a:lnTo>
                    <a:pt x="120" y="1056"/>
                  </a:lnTo>
                  <a:lnTo>
                    <a:pt x="0" y="1142"/>
                  </a:lnTo>
                  <a:close/>
                </a:path>
              </a:pathLst>
            </a:custGeom>
            <a:solidFill>
              <a:srgbClr val="35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89120" y="4030560"/>
              <a:ext cx="295920" cy="1665360"/>
            </a:xfrm>
            <a:prstGeom prst="rect">
              <a:avLst/>
            </a:prstGeom>
            <a:solidFill>
              <a:srgbClr val="69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89120" y="3882960"/>
              <a:ext cx="502200" cy="147600"/>
            </a:xfrm>
            <a:custGeom>
              <a:avLst/>
              <a:gdLst/>
              <a:ahLst/>
              <a:rect l="l" t="t" r="r" b="b"/>
              <a:pathLst>
                <a:path w="292" h="93">
                  <a:moveTo>
                    <a:pt x="172" y="93"/>
                  </a:moveTo>
                  <a:lnTo>
                    <a:pt x="292" y="0"/>
                  </a:lnTo>
                  <a:lnTo>
                    <a:pt x="119" y="0"/>
                  </a:lnTo>
                  <a:lnTo>
                    <a:pt x="0" y="93"/>
                  </a:lnTo>
                  <a:lnTo>
                    <a:pt x="172" y="93"/>
                  </a:lnTo>
                  <a:close/>
                </a:path>
              </a:pathLst>
            </a:custGeom>
            <a:solidFill>
              <a:srgbClr val="4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28080" y="4641840"/>
              <a:ext cx="204480" cy="1054080"/>
            </a:xfrm>
            <a:custGeom>
              <a:avLst/>
              <a:gdLst/>
              <a:ahLst/>
              <a:rect l="l" t="t" r="r" b="b"/>
              <a:pathLst>
                <a:path w="119" h="664">
                  <a:moveTo>
                    <a:pt x="0" y="664"/>
                  </a:moveTo>
                  <a:lnTo>
                    <a:pt x="0" y="86"/>
                  </a:lnTo>
                  <a:lnTo>
                    <a:pt x="119" y="0"/>
                  </a:lnTo>
                  <a:lnTo>
                    <a:pt x="119" y="578"/>
                  </a:lnTo>
                  <a:lnTo>
                    <a:pt x="0" y="664"/>
                  </a:lnTo>
                  <a:close/>
                </a:path>
              </a:pathLst>
            </a:custGeom>
            <a:solidFill>
              <a:srgbClr val="808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30360" y="4778280"/>
              <a:ext cx="297360" cy="917640"/>
            </a:xfrm>
            <a:prstGeom prst="rect">
              <a:avLst/>
            </a:prstGeom>
            <a:solidFill>
              <a:srgbClr val="ffff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0360" y="4641840"/>
              <a:ext cx="502200" cy="136440"/>
            </a:xfrm>
            <a:custGeom>
              <a:avLst/>
              <a:gdLst/>
              <a:ahLst/>
              <a:rect l="l" t="t" r="r" b="b"/>
              <a:pathLst>
                <a:path w="292" h="86">
                  <a:moveTo>
                    <a:pt x="173" y="86"/>
                  </a:moveTo>
                  <a:lnTo>
                    <a:pt x="292" y="0"/>
                  </a:lnTo>
                  <a:lnTo>
                    <a:pt x="120" y="0"/>
                  </a:lnTo>
                  <a:lnTo>
                    <a:pt x="0" y="86"/>
                  </a:lnTo>
                  <a:lnTo>
                    <a:pt x="173" y="86"/>
                  </a:lnTo>
                  <a:close/>
                </a:path>
              </a:pathLst>
            </a:custGeom>
            <a:solidFill>
              <a:srgbClr val="bfbf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3640" y="4305240"/>
              <a:ext cx="206280" cy="1390680"/>
            </a:xfrm>
            <a:custGeom>
              <a:avLst/>
              <a:gdLst/>
              <a:ahLst/>
              <a:rect l="l" t="t" r="r" b="b"/>
              <a:pathLst>
                <a:path w="120" h="876">
                  <a:moveTo>
                    <a:pt x="0" y="876"/>
                  </a:moveTo>
                  <a:lnTo>
                    <a:pt x="0" y="93"/>
                  </a:lnTo>
                  <a:lnTo>
                    <a:pt x="120" y="0"/>
                  </a:lnTo>
                  <a:lnTo>
                    <a:pt x="120" y="790"/>
                  </a:lnTo>
                  <a:lnTo>
                    <a:pt x="0" y="876"/>
                  </a:lnTo>
                  <a:close/>
                </a:path>
              </a:pathLst>
            </a:custGeom>
            <a:solidFill>
              <a:srgbClr val="35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28080" y="4452840"/>
              <a:ext cx="295560" cy="1243080"/>
            </a:xfrm>
            <a:prstGeom prst="rect">
              <a:avLst/>
            </a:prstGeom>
            <a:solidFill>
              <a:srgbClr val="69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8080" y="4305240"/>
              <a:ext cx="501840" cy="147600"/>
            </a:xfrm>
            <a:custGeom>
              <a:avLst/>
              <a:gdLst/>
              <a:ahLst/>
              <a:rect l="l" t="t" r="r" b="b"/>
              <a:pathLst>
                <a:path w="292" h="93">
                  <a:moveTo>
                    <a:pt x="172" y="93"/>
                  </a:moveTo>
                  <a:lnTo>
                    <a:pt x="292" y="0"/>
                  </a:lnTo>
                  <a:lnTo>
                    <a:pt x="119" y="0"/>
                  </a:lnTo>
                  <a:lnTo>
                    <a:pt x="0" y="93"/>
                  </a:lnTo>
                  <a:lnTo>
                    <a:pt x="172" y="93"/>
                  </a:lnTo>
                  <a:close/>
                </a:path>
              </a:pathLst>
            </a:custGeom>
            <a:solidFill>
              <a:srgbClr val="4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66680" y="4809960"/>
              <a:ext cx="206280" cy="885960"/>
            </a:xfrm>
            <a:custGeom>
              <a:avLst/>
              <a:gdLst/>
              <a:ahLst/>
              <a:rect l="l" t="t" r="r" b="b"/>
              <a:pathLst>
                <a:path w="120" h="558">
                  <a:moveTo>
                    <a:pt x="0" y="558"/>
                  </a:moveTo>
                  <a:lnTo>
                    <a:pt x="0" y="87"/>
                  </a:lnTo>
                  <a:lnTo>
                    <a:pt x="120" y="0"/>
                  </a:lnTo>
                  <a:lnTo>
                    <a:pt x="120" y="472"/>
                  </a:lnTo>
                  <a:lnTo>
                    <a:pt x="0" y="558"/>
                  </a:lnTo>
                  <a:close/>
                </a:path>
              </a:pathLst>
            </a:custGeom>
            <a:solidFill>
              <a:srgbClr val="808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8960" y="4948200"/>
              <a:ext cx="297360" cy="747720"/>
            </a:xfrm>
            <a:prstGeom prst="rect">
              <a:avLst/>
            </a:prstGeom>
            <a:solidFill>
              <a:srgbClr val="ffff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68960" y="4809960"/>
              <a:ext cx="503640" cy="138240"/>
            </a:xfrm>
            <a:custGeom>
              <a:avLst/>
              <a:gdLst/>
              <a:ahLst/>
              <a:rect l="l" t="t" r="r" b="b"/>
              <a:pathLst>
                <a:path w="293" h="87">
                  <a:moveTo>
                    <a:pt x="173" y="87"/>
                  </a:moveTo>
                  <a:lnTo>
                    <a:pt x="293" y="0"/>
                  </a:lnTo>
                  <a:lnTo>
                    <a:pt x="120" y="0"/>
                  </a:lnTo>
                  <a:lnTo>
                    <a:pt x="0" y="87"/>
                  </a:lnTo>
                  <a:lnTo>
                    <a:pt x="173" y="87"/>
                  </a:lnTo>
                  <a:close/>
                </a:path>
              </a:pathLst>
            </a:custGeom>
            <a:solidFill>
              <a:srgbClr val="bfbf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4040" y="4492800"/>
              <a:ext cx="204480" cy="1222200"/>
            </a:xfrm>
            <a:custGeom>
              <a:avLst/>
              <a:gdLst/>
              <a:ahLst/>
              <a:rect l="l" t="t" r="r" b="b"/>
              <a:pathLst>
                <a:path w="119" h="770">
                  <a:moveTo>
                    <a:pt x="0" y="770"/>
                  </a:moveTo>
                  <a:lnTo>
                    <a:pt x="0" y="86"/>
                  </a:lnTo>
                  <a:lnTo>
                    <a:pt x="119" y="0"/>
                  </a:lnTo>
                  <a:lnTo>
                    <a:pt x="119" y="684"/>
                  </a:lnTo>
                  <a:lnTo>
                    <a:pt x="0" y="770"/>
                  </a:lnTo>
                  <a:close/>
                </a:path>
              </a:pathLst>
            </a:custGeom>
            <a:solidFill>
              <a:srgbClr val="35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66680" y="4610160"/>
              <a:ext cx="297360" cy="1085760"/>
            </a:xfrm>
            <a:prstGeom prst="rect">
              <a:avLst/>
            </a:prstGeom>
            <a:solidFill>
              <a:srgbClr val="69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66680" y="4473720"/>
              <a:ext cx="502200" cy="136440"/>
            </a:xfrm>
            <a:custGeom>
              <a:avLst/>
              <a:gdLst/>
              <a:ahLst/>
              <a:rect l="l" t="t" r="r" b="b"/>
              <a:pathLst>
                <a:path w="292" h="86">
                  <a:moveTo>
                    <a:pt x="173" y="86"/>
                  </a:moveTo>
                  <a:lnTo>
                    <a:pt x="292" y="0"/>
                  </a:lnTo>
                  <a:lnTo>
                    <a:pt x="120" y="0"/>
                  </a:lnTo>
                  <a:lnTo>
                    <a:pt x="0" y="86"/>
                  </a:lnTo>
                  <a:lnTo>
                    <a:pt x="173" y="86"/>
                  </a:lnTo>
                  <a:close/>
                </a:path>
              </a:pathLst>
            </a:custGeom>
            <a:solidFill>
              <a:srgbClr val="4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669320" y="2776320"/>
              <a:ext cx="1440" cy="2919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622880" y="5695920"/>
              <a:ext cx="46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622880" y="5284800"/>
              <a:ext cx="46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622880" y="4863960"/>
              <a:ext cx="460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622880" y="4452840"/>
              <a:ext cx="460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622880" y="4030560"/>
              <a:ext cx="460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622880" y="3610080"/>
              <a:ext cx="46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622880" y="3198960"/>
              <a:ext cx="46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622880" y="2776680"/>
              <a:ext cx="46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1120" y="56055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91120" y="51944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88160" y="477360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88160" y="436248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15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88160" y="394020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20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88160" y="35193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25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88160" y="310824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88160" y="26859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35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69320" y="5695920"/>
              <a:ext cx="621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69320" y="569592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07920" y="5695920"/>
              <a:ext cx="180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36080" y="5695920"/>
              <a:ext cx="180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75040" y="569592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13640" y="5695920"/>
              <a:ext cx="180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52600" y="569592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81120" y="569592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42000" y="57848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50200" y="578484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0.0001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35240" y="578484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0.001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21360" y="578484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0.01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07120" y="57848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0.1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24920" y="57848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45800" y="2909880"/>
              <a:ext cx="232200" cy="214200"/>
            </a:xfrm>
            <a:prstGeom prst="rect">
              <a:avLst/>
            </a:prstGeom>
            <a:solidFill>
              <a:srgbClr val="ffff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58720" y="2844720"/>
              <a:ext cx="173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305"/>
                  </a:solidFill>
                  <a:latin typeface="Book Antiqua"/>
                </a:rPr>
                <a:t>Blast/Total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45800" y="3444840"/>
              <a:ext cx="232200" cy="212760"/>
            </a:xfrm>
            <a:prstGeom prst="rect">
              <a:avLst/>
            </a:prstGeom>
            <a:solidFill>
              <a:srgbClr val="69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4800" y="3443400"/>
              <a:ext cx="205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305"/>
                  </a:solidFill>
                  <a:latin typeface="Book Antiqua"/>
                </a:rPr>
                <a:t>Blast/cleaved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26320" y="373680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34240" y="390060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96960" y="420516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66720" y="2536920"/>
              <a:ext cx="18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60680" y="2514600"/>
              <a:ext cx="18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38880" y="35053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20960" y="35053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02760" y="39625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93480" y="411480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0680" y="3735360"/>
              <a:ext cx="455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Book Antiqua"/>
                </a:rPr>
                <a:t>%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92440" y="5715000"/>
              <a:ext cx="1152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Book Antiqua"/>
                </a:rPr>
                <a:t>µg/ml</a:t>
              </a: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65360" y="43434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71360" y="2833560"/>
              <a:ext cx="18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65320" y="2811600"/>
              <a:ext cx="18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4127400" y="6095880"/>
            <a:ext cx="247680" cy="609840"/>
          </a:xfrm>
          <a:prstGeom prst="upArrow">
            <a:avLst>
              <a:gd name="adj1" fmla="val 50000"/>
              <a:gd name="adj2" fmla="val 6155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11040" y="38160"/>
            <a:ext cx="748332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afd00"/>
                </a:solidFill>
                <a:latin typeface="Book Antiqua"/>
              </a:rPr>
              <a:t>Summary 1</a:t>
            </a:r>
            <a:endParaRPr b="1" lang="en-US" sz="48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420" name=""/>
          <p:cNvSpPr/>
          <p:nvPr/>
        </p:nvSpPr>
        <p:spPr>
          <a:xfrm>
            <a:off x="577800" y="1219320"/>
            <a:ext cx="8667720" cy="54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</a:rPr>
              <a:t>Exposure to PCBs during </a:t>
            </a:r>
            <a:r>
              <a:rPr b="1" i="1" lang="en-GB" sz="3200" spc="-1" strike="noStrike">
                <a:solidFill>
                  <a:srgbClr val="ffffff"/>
                </a:solidFill>
                <a:latin typeface="Book Antiqua"/>
              </a:rPr>
              <a:t>in vitro 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</a:rPr>
              <a:t>maturation affects maturation, fertilization and developmental rates of bovine oocytes at doses as low as 0.001 µg/m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</a:rPr>
              <a:t>The effect on fertilization becomes evident with high polyspermy ra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</a:rPr>
              <a:t>Reduced development of fertilized oocytes suggests long term effects of PCB exposure during matur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Palatino"/>
              </a:rPr>
              <a:t>Mechanisms of </a:t>
            </a:r>
            <a:br>
              <a:rPr sz="6000"/>
            </a:br>
            <a:r>
              <a:rPr b="1" lang="en-GB" sz="6000" spc="-1" strike="noStrike">
                <a:solidFill>
                  <a:srgbClr val="ffff00"/>
                </a:solidFill>
                <a:latin typeface="Palatino"/>
              </a:rPr>
              <a:t>PCB Toxicity</a:t>
            </a:r>
            <a:endParaRPr b="1" lang="en-US" sz="60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9326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Palatino"/>
              </a:rPr>
              <a:t>Study of Maternal mRNA Molecule Polyadenylation as a Possible target of 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Palatino"/>
              </a:rPr>
              <a:t>PCB toxicity </a:t>
            </a:r>
            <a:endParaRPr b="1" lang="en-US" sz="4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7040" y="456840"/>
            <a:ext cx="93916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Palatino"/>
              </a:rPr>
              <a:t>Comparison between the developmental competence of in vivo and in vitro matured oocytes </a:t>
            </a:r>
            <a:endParaRPr b="1" lang="en-US" sz="32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" y="6491160"/>
            <a:ext cx="593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rom Sirard &amp; Blondin,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Animal Reprod Scienc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1996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5" name=""/>
          <p:cNvSpPr/>
          <p:nvPr/>
        </p:nvSpPr>
        <p:spPr>
          <a:xfrm>
            <a:off x="806400" y="2590920"/>
            <a:ext cx="139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9600" y="1143000"/>
          <a:ext cx="9840960" cy="54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00" y="1143000"/>
                    <a:ext cx="98409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47680" y="228600"/>
            <a:ext cx="9437760" cy="1186200"/>
          </a:xfrm>
          <a:prstGeom prst="rect">
            <a:avLst/>
          </a:prstGeom>
          <a:noFill/>
          <a:ln w="0">
            <a:noFill/>
          </a:ln>
          <a:effectLst>
            <a:outerShdw dist="85328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edf50a"/>
                </a:solidFill>
                <a:latin typeface="Palatino"/>
              </a:rPr>
              <a:t>Role of maternal mRNA in early embryonic developmen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9" name=""/>
          <p:cNvSpPr/>
          <p:nvPr/>
        </p:nvSpPr>
        <p:spPr>
          <a:xfrm>
            <a:off x="6432840" y="3370320"/>
            <a:ext cx="3017520" cy="454680"/>
          </a:xfrm>
          <a:prstGeom prst="rect">
            <a:avLst/>
          </a:prstGeom>
          <a:noFill/>
          <a:ln w="0">
            <a:noFill/>
          </a:ln>
          <a:effectLst>
            <a:outerShdw dist="85328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edf50a"/>
                </a:solidFill>
                <a:latin typeface="Palatino"/>
              </a:rPr>
              <a:t>Embryonic mRN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"/>
          <p:cNvSpPr/>
          <p:nvPr/>
        </p:nvSpPr>
        <p:spPr>
          <a:xfrm>
            <a:off x="84240" y="3370320"/>
            <a:ext cx="2747880" cy="454680"/>
          </a:xfrm>
          <a:prstGeom prst="rect">
            <a:avLst/>
          </a:prstGeom>
          <a:noFill/>
          <a:ln w="0">
            <a:noFill/>
          </a:ln>
          <a:effectLst>
            <a:outerShdw dist="85328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edf50a"/>
                </a:solidFill>
                <a:latin typeface="Palatino"/>
              </a:rPr>
              <a:t>Maternal mRN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87360" y="3100320"/>
            <a:ext cx="8951400" cy="0"/>
            <a:chOff x="387360" y="3100320"/>
            <a:chExt cx="8951400" cy="0"/>
          </a:xfrm>
        </p:grpSpPr>
        <p:sp>
          <p:nvSpPr>
            <p:cNvPr id="432" name=""/>
            <p:cNvSpPr/>
            <p:nvPr/>
          </p:nvSpPr>
          <p:spPr>
            <a:xfrm>
              <a:off x="387360" y="3100320"/>
              <a:ext cx="5319720" cy="0"/>
            </a:xfrm>
            <a:prstGeom prst="line">
              <a:avLst/>
            </a:prstGeom>
            <a:ln w="76320">
              <a:solidFill>
                <a:srgbClr val="a3f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61800" y="3100320"/>
              <a:ext cx="3576960" cy="0"/>
            </a:xfrm>
            <a:prstGeom prst="line">
              <a:avLst/>
            </a:prstGeom>
            <a:ln w="76320">
              <a:solidFill>
                <a:srgbClr val="e540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3200" y="1562040"/>
            <a:ext cx="9177120" cy="1212840"/>
            <a:chOff x="403200" y="1562040"/>
            <a:chExt cx="9177120" cy="1212840"/>
          </a:xfrm>
        </p:grpSpPr>
        <p:sp>
          <p:nvSpPr>
            <p:cNvPr id="435" name=""/>
            <p:cNvSpPr/>
            <p:nvPr/>
          </p:nvSpPr>
          <p:spPr>
            <a:xfrm>
              <a:off x="8479800" y="1631880"/>
              <a:ext cx="1100520" cy="1143000"/>
            </a:xfrm>
            <a:prstGeom prst="ellipse">
              <a:avLst/>
            </a:prstGeom>
            <a:solidFill>
              <a:srgbClr val="eaec5e"/>
            </a:solidFill>
            <a:ln w="50760">
              <a:solidFill>
                <a:srgbClr val="a2c1fe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83800" y="1581120"/>
              <a:ext cx="1100520" cy="1143000"/>
            </a:xfrm>
            <a:prstGeom prst="ellipse">
              <a:avLst/>
            </a:prstGeom>
            <a:solidFill>
              <a:srgbClr val="eaec5e"/>
            </a:solidFill>
            <a:ln w="50760">
              <a:solidFill>
                <a:srgbClr val="a2c1fe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2520" y="1562040"/>
              <a:ext cx="1100520" cy="1143000"/>
            </a:xfrm>
            <a:prstGeom prst="ellipse">
              <a:avLst/>
            </a:prstGeom>
            <a:solidFill>
              <a:srgbClr val="eaec5e"/>
            </a:solidFill>
            <a:ln w="50760">
              <a:solidFill>
                <a:srgbClr val="a2c1fe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58760" y="1581120"/>
              <a:ext cx="1100520" cy="1143000"/>
            </a:xfrm>
            <a:prstGeom prst="ellipse">
              <a:avLst/>
            </a:prstGeom>
            <a:solidFill>
              <a:srgbClr val="eaec5e"/>
            </a:solidFill>
            <a:ln w="50760">
              <a:solidFill>
                <a:srgbClr val="a2c1fe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7760" y="1581120"/>
              <a:ext cx="1100520" cy="1143000"/>
            </a:xfrm>
            <a:prstGeom prst="ellipse">
              <a:avLst/>
            </a:prstGeom>
            <a:solidFill>
              <a:srgbClr val="eaec5e"/>
            </a:solidFill>
            <a:ln w="50760">
              <a:solidFill>
                <a:srgbClr val="a2c1fe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5480" y="1581120"/>
              <a:ext cx="1100520" cy="1143000"/>
            </a:xfrm>
            <a:prstGeom prst="ellipse">
              <a:avLst/>
            </a:prstGeom>
            <a:solidFill>
              <a:srgbClr val="eaec5e"/>
            </a:solidFill>
            <a:ln w="50760">
              <a:solidFill>
                <a:srgbClr val="a2c1fe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3200" y="1581120"/>
              <a:ext cx="1100520" cy="1143000"/>
            </a:xfrm>
            <a:prstGeom prst="ellipse">
              <a:avLst/>
            </a:prstGeom>
            <a:solidFill>
              <a:srgbClr val="eaec5e"/>
            </a:solidFill>
            <a:ln w="50760">
              <a:solidFill>
                <a:srgbClr val="a2c1fe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8556840" y="1746360"/>
              <a:ext cx="938880" cy="948240"/>
              <a:chOff x="8556840" y="1746360"/>
              <a:chExt cx="938880" cy="94824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8556840" y="1746360"/>
                <a:ext cx="938880" cy="948240"/>
                <a:chOff x="8556840" y="1746360"/>
                <a:chExt cx="938880" cy="94824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8559360" y="1746360"/>
                  <a:ext cx="910440" cy="591840"/>
                  <a:chOff x="8559360" y="1746360"/>
                  <a:chExt cx="910440" cy="5918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H="1" flipV="1" rot="10800000">
                    <a:off x="8874000" y="1754640"/>
                    <a:ext cx="342000" cy="214200"/>
                  </a:xfrm>
                  <a:custGeom>
                    <a:avLst/>
                    <a:gdLst>
                      <a:gd name="textAreaLeft" fmla="*/ 75240 w 342000"/>
                      <a:gd name="textAreaRight" fmla="*/ 266760 w 342000"/>
                      <a:gd name="textAreaTop" fmla="*/ 47160 h 214200"/>
                      <a:gd name="textAreaBottom" fmla="*/ 167040 h 214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1" y="21600"/>
                        </a:lnTo>
                        <a:lnTo>
                          <a:pt x="5399" y="21600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stretch/>
                  </a:blip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 rot="13440000">
                    <a:off x="9089640" y="1842120"/>
                    <a:ext cx="348120" cy="231840"/>
                  </a:xfrm>
                  <a:custGeom>
                    <a:avLst/>
                    <a:gdLst>
                      <a:gd name="textAreaLeft" fmla="*/ 76320 w 348120"/>
                      <a:gd name="textAreaRight" fmla="*/ 271800 w 348120"/>
                      <a:gd name="textAreaTop" fmla="*/ 50760 h 231840"/>
                      <a:gd name="textAreaBottom" fmla="*/ 181080 h 231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1" y="21600"/>
                        </a:lnTo>
                        <a:lnTo>
                          <a:pt x="5399" y="2160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8559360" y="1746360"/>
                    <a:ext cx="473760" cy="591840"/>
                    <a:chOff x="8559360" y="1746360"/>
                    <a:chExt cx="473760" cy="59184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flipH="1" flipV="1" rot="6060000">
                      <a:off x="8515800" y="2041200"/>
                      <a:ext cx="355320" cy="204840"/>
                    </a:xfrm>
                    <a:custGeom>
                      <a:avLst/>
                      <a:gdLst>
                        <a:gd name="textAreaLeft" fmla="*/ 78120 w 355320"/>
                        <a:gd name="textAreaRight" fmla="*/ 277200 w 355320"/>
                        <a:gd name="textAreaTop" fmla="*/ 45000 h 204840"/>
                        <a:gd name="textAreaBottom" fmla="*/ 159840 h 2048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1" y="21600"/>
                          </a:lnTo>
                          <a:lnTo>
                            <a:pt x="5399" y="21600"/>
                          </a:ln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stretch/>
                    </a:blipFill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0" dir="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flipH="1" flipV="1" rot="8700000">
                      <a:off x="8649360" y="1824480"/>
                      <a:ext cx="347760" cy="235080"/>
                    </a:xfrm>
                    <a:custGeom>
                      <a:avLst/>
                      <a:gdLst>
                        <a:gd name="textAreaLeft" fmla="*/ 76320 w 347760"/>
                        <a:gd name="textAreaRight" fmla="*/ 271440 w 347760"/>
                        <a:gd name="textAreaTop" fmla="*/ 51480 h 235080"/>
                        <a:gd name="textAreaBottom" fmla="*/ 183600 h 2350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1" y="21600"/>
                          </a:lnTo>
                          <a:lnTo>
                            <a:pt x="5399" y="21600"/>
                          </a:ln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stretch/>
                    </a:blipFill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0" dir="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8656560" y="1980720"/>
                  <a:ext cx="839160" cy="713880"/>
                  <a:chOff x="8656560" y="1980720"/>
                  <a:chExt cx="839160" cy="71388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flipH="1" flipV="1" rot="20640000">
                    <a:off x="8930520" y="2429280"/>
                    <a:ext cx="342000" cy="214560"/>
                  </a:xfrm>
                  <a:custGeom>
                    <a:avLst/>
                    <a:gdLst>
                      <a:gd name="textAreaLeft" fmla="*/ 75240 w 342000"/>
                      <a:gd name="textAreaRight" fmla="*/ 266760 w 342000"/>
                      <a:gd name="textAreaTop" fmla="*/ 47160 h 214560"/>
                      <a:gd name="textAreaBottom" fmla="*/ 167400 h 214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1" y="21600"/>
                        </a:lnTo>
                        <a:lnTo>
                          <a:pt x="5399" y="2160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flipV="1" rot="1680000">
                    <a:off x="8691120" y="2391120"/>
                    <a:ext cx="346680" cy="235080"/>
                  </a:xfrm>
                  <a:custGeom>
                    <a:avLst/>
                    <a:gdLst>
                      <a:gd name="textAreaLeft" fmla="*/ 75960 w 346680"/>
                      <a:gd name="textAreaRight" fmla="*/ 270720 w 346680"/>
                      <a:gd name="textAreaTop" fmla="*/ 51480 h 235080"/>
                      <a:gd name="textAreaBottom" fmla="*/ 183600 h 235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1" y="21600"/>
                        </a:lnTo>
                        <a:lnTo>
                          <a:pt x="5399" y="21600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9092880" y="1980720"/>
                    <a:ext cx="402840" cy="627120"/>
                    <a:chOff x="9092880" y="1980720"/>
                    <a:chExt cx="402840" cy="6271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flipH="1" flipV="1" rot="15900000">
                      <a:off x="9183600" y="2064600"/>
                      <a:ext cx="355680" cy="204120"/>
                    </a:xfrm>
                    <a:custGeom>
                      <a:avLst/>
                      <a:gdLst>
                        <a:gd name="textAreaLeft" fmla="*/ 78120 w 355680"/>
                        <a:gd name="textAreaRight" fmla="*/ 277560 w 355680"/>
                        <a:gd name="textAreaTop" fmla="*/ 44640 h 204120"/>
                        <a:gd name="textAreaBottom" fmla="*/ 159480 h 204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1" y="21600"/>
                          </a:lnTo>
                          <a:lnTo>
                            <a:pt x="5399" y="21600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stretch/>
                    </a:blipFill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0" dir="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H="1" flipV="1" rot="18540000">
                      <a:off x="9112320" y="2283840"/>
                      <a:ext cx="363240" cy="224280"/>
                    </a:xfrm>
                    <a:custGeom>
                      <a:avLst/>
                      <a:gdLst>
                        <a:gd name="textAreaLeft" fmla="*/ 79920 w 363240"/>
                        <a:gd name="textAreaRight" fmla="*/ 283320 w 363240"/>
                        <a:gd name="textAreaTop" fmla="*/ 49320 h 224280"/>
                        <a:gd name="textAreaBottom" fmla="*/ 174960 h 224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1" y="21600"/>
                          </a:lnTo>
                          <a:lnTo>
                            <a:pt x="5399" y="2160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stretch/>
                    </a:blipFill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0" dir="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456" name=""/>
                <p:cNvSpPr/>
                <p:nvPr/>
              </p:nvSpPr>
              <p:spPr>
                <a:xfrm flipH="1" flipV="1" rot="4020000">
                  <a:off x="8583840" y="2244600"/>
                  <a:ext cx="258480" cy="230760"/>
                </a:xfrm>
                <a:custGeom>
                  <a:avLst/>
                  <a:gdLst>
                    <a:gd name="textAreaLeft" fmla="*/ 56880 w 258480"/>
                    <a:gd name="textAreaRight" fmla="*/ 201600 w 258480"/>
                    <a:gd name="textAreaTop" fmla="*/ 50760 h 230760"/>
                    <a:gd name="textAreaBottom" fmla="*/ 180000 h 230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12600">
                  <a:solidFill>
                    <a:srgbClr val="000000"/>
                  </a:solidFill>
                  <a:miter/>
                </a:ln>
                <a:effectLst>
                  <a:outerShdw dist="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8890560" y="2343240"/>
                <a:ext cx="74520" cy="759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53560" y="2370240"/>
                <a:ext cx="73440" cy="777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003960" y="2378160"/>
                <a:ext cx="73080" cy="777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046800" y="2374920"/>
                <a:ext cx="73440" cy="7632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45640" y="2301840"/>
                <a:ext cx="73440" cy="7632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43560" y="2322360"/>
                <a:ext cx="73440" cy="7632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991360" y="2333520"/>
                <a:ext cx="74520" cy="777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097200" y="2351160"/>
                <a:ext cx="73080" cy="759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907480" y="2286000"/>
                <a:ext cx="73440" cy="7632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077040" y="2286000"/>
                <a:ext cx="74520" cy="7632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019080" y="2273400"/>
                <a:ext cx="74520" cy="777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968680" y="2257560"/>
                <a:ext cx="74520" cy="759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7226640" y="1663560"/>
              <a:ext cx="1004400" cy="1013760"/>
              <a:chOff x="7226640" y="1663560"/>
              <a:chExt cx="1004400" cy="1013760"/>
            </a:xfrm>
          </p:grpSpPr>
          <p:sp>
            <p:nvSpPr>
              <p:cNvPr id="470" name=""/>
              <p:cNvSpPr/>
              <p:nvPr/>
            </p:nvSpPr>
            <p:spPr>
              <a:xfrm flipH="1" flipV="1" rot="10800000">
                <a:off x="7540200" y="1663560"/>
                <a:ext cx="352440" cy="252720"/>
              </a:xfrm>
              <a:custGeom>
                <a:avLst/>
                <a:gdLst>
                  <a:gd name="textAreaLeft" fmla="*/ 77400 w 352440"/>
                  <a:gd name="textAreaRight" fmla="*/ 275040 w 352440"/>
                  <a:gd name="textAreaTop" fmla="*/ 55440 h 252720"/>
                  <a:gd name="textAreaBottom" fmla="*/ 197280 h 2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flipV="1" rot="13140000">
                <a:off x="7773120" y="1745640"/>
                <a:ext cx="351000" cy="255600"/>
              </a:xfrm>
              <a:custGeom>
                <a:avLst/>
                <a:gdLst>
                  <a:gd name="textAreaLeft" fmla="*/ 77040 w 351000"/>
                  <a:gd name="textAreaRight" fmla="*/ 273960 w 351000"/>
                  <a:gd name="textAreaTop" fmla="*/ 56160 h 255600"/>
                  <a:gd name="textAreaBottom" fmla="*/ 199440 h 25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 rot="8340000">
                <a:off x="7309440" y="1749600"/>
                <a:ext cx="352440" cy="252360"/>
              </a:xfrm>
              <a:custGeom>
                <a:avLst/>
                <a:gdLst>
                  <a:gd name="textAreaLeft" fmla="*/ 77400 w 352440"/>
                  <a:gd name="textAreaRight" fmla="*/ 275040 w 352440"/>
                  <a:gd name="textAreaTop" fmla="*/ 55440 h 252360"/>
                  <a:gd name="textAreaBottom" fmla="*/ 196920 h 25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 rot="15600000">
                <a:off x="7894080" y="1966320"/>
                <a:ext cx="365040" cy="242640"/>
              </a:xfrm>
              <a:custGeom>
                <a:avLst/>
                <a:gdLst>
                  <a:gd name="textAreaLeft" fmla="*/ 80280 w 365040"/>
                  <a:gd name="textAreaRight" fmla="*/ 284760 w 365040"/>
                  <a:gd name="textAreaTop" fmla="*/ 53280 h 242640"/>
                  <a:gd name="textAreaBottom" fmla="*/ 189360 h 24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 rot="17820000">
                <a:off x="7857720" y="2210040"/>
                <a:ext cx="364680" cy="242640"/>
              </a:xfrm>
              <a:custGeom>
                <a:avLst/>
                <a:gdLst>
                  <a:gd name="textAreaLeft" fmla="*/ 79920 w 364680"/>
                  <a:gd name="textAreaRight" fmla="*/ 284760 w 364680"/>
                  <a:gd name="textAreaTop" fmla="*/ 53280 h 242640"/>
                  <a:gd name="textAreaBottom" fmla="*/ 189360 h 24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7226640" y="1902240"/>
                <a:ext cx="848520" cy="775080"/>
                <a:chOff x="7226640" y="1902240"/>
                <a:chExt cx="848520" cy="775080"/>
              </a:xfrm>
            </p:grpSpPr>
            <p:sp>
              <p:nvSpPr>
                <p:cNvPr id="476" name=""/>
                <p:cNvSpPr/>
                <p:nvPr/>
              </p:nvSpPr>
              <p:spPr>
                <a:xfrm flipH="1" flipV="1" rot="1140000">
                  <a:off x="7443360" y="2369160"/>
                  <a:ext cx="351720" cy="252360"/>
                </a:xfrm>
                <a:custGeom>
                  <a:avLst/>
                  <a:gdLst>
                    <a:gd name="textAreaLeft" fmla="*/ 77400 w 351720"/>
                    <a:gd name="textAreaRight" fmla="*/ 274320 w 351720"/>
                    <a:gd name="textAreaTop" fmla="*/ 55440 h 252360"/>
                    <a:gd name="textAreaBottom" fmla="*/ 196920 h 25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w="12600">
                  <a:solidFill>
                    <a:srgbClr val="000000"/>
                  </a:solidFill>
                  <a:miter/>
                </a:ln>
                <a:effectLst>
                  <a:outerShdw dist="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 rot="3480000">
                  <a:off x="7245720" y="2221560"/>
                  <a:ext cx="365040" cy="245880"/>
                </a:xfrm>
                <a:custGeom>
                  <a:avLst/>
                  <a:gdLst>
                    <a:gd name="textAreaLeft" fmla="*/ 80280 w 365040"/>
                    <a:gd name="textAreaRight" fmla="*/ 284760 w 365040"/>
                    <a:gd name="textAreaTop" fmla="*/ 54000 h 245880"/>
                    <a:gd name="textAreaBottom" fmla="*/ 191880 h 245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12600">
                  <a:solidFill>
                    <a:srgbClr val="000000"/>
                  </a:solidFill>
                  <a:miter/>
                </a:ln>
                <a:effectLst>
                  <a:outerShdw dist="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flipV="1" rot="20280000">
                  <a:off x="7687440" y="2367720"/>
                  <a:ext cx="352800" cy="252360"/>
                </a:xfrm>
                <a:custGeom>
                  <a:avLst/>
                  <a:gdLst>
                    <a:gd name="textAreaLeft" fmla="*/ 77400 w 352800"/>
                    <a:gd name="textAreaRight" fmla="*/ 275400 w 352800"/>
                    <a:gd name="textAreaTop" fmla="*/ 55440 h 252360"/>
                    <a:gd name="textAreaBottom" fmla="*/ 196920 h 25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blipFill rotWithShape="0">
                  <a:blip r:embed="rId29"/>
                  <a:srcRect/>
                  <a:stretch/>
                </a:blipFill>
                <a:ln w="12600">
                  <a:solidFill>
                    <a:srgbClr val="000000"/>
                  </a:solidFill>
                  <a:miter/>
                </a:ln>
                <a:effectLst>
                  <a:outerShdw dist="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 rot="5940000">
                  <a:off x="7191360" y="1980360"/>
                  <a:ext cx="365760" cy="240840"/>
                </a:xfrm>
                <a:custGeom>
                  <a:avLst/>
                  <a:gdLst>
                    <a:gd name="textAreaLeft" fmla="*/ 80280 w 365760"/>
                    <a:gd name="textAreaRight" fmla="*/ 285480 w 365760"/>
                    <a:gd name="textAreaTop" fmla="*/ 52920 h 240840"/>
                    <a:gd name="textAreaBottom" fmla="*/ 187920 h 240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blipFill rotWithShape="0">
                  <a:blip r:embed="rId30"/>
                  <a:srcRect/>
                  <a:stretch/>
                </a:blipFill>
                <a:ln w="12600">
                  <a:solidFill>
                    <a:srgbClr val="000000"/>
                  </a:solidFill>
                  <a:miter/>
                </a:ln>
                <a:effectLst>
                  <a:outerShdw dist="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7483320" y="1881360"/>
              <a:ext cx="505440" cy="510840"/>
              <a:chOff x="7483320" y="1881360"/>
              <a:chExt cx="505440" cy="510840"/>
            </a:xfrm>
          </p:grpSpPr>
          <p:sp>
            <p:nvSpPr>
              <p:cNvPr id="481" name=""/>
              <p:cNvSpPr/>
              <p:nvPr/>
            </p:nvSpPr>
            <p:spPr>
              <a:xfrm>
                <a:off x="7677000" y="1881360"/>
                <a:ext cx="172440" cy="17928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761240" y="1954080"/>
                <a:ext cx="172440" cy="17784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48200" y="2052720"/>
                <a:ext cx="172800" cy="17928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00040" y="2208240"/>
                <a:ext cx="171000" cy="179280"/>
              </a:xfrm>
              <a:prstGeom prst="ellipse">
                <a:avLst/>
              </a:prstGeom>
              <a:blipFill rotWithShape="0">
                <a:blip r:embed="rId34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611480" y="2212920"/>
                <a:ext cx="172800" cy="179280"/>
              </a:xfrm>
              <a:prstGeom prst="ellipse">
                <a:avLst/>
              </a:prstGeom>
              <a:blipFill rotWithShape="0">
                <a:blip r:embed="rId35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567200" y="1903320"/>
                <a:ext cx="172440" cy="179640"/>
              </a:xfrm>
              <a:prstGeom prst="ellipse">
                <a:avLst/>
              </a:prstGeom>
              <a:blipFill rotWithShape="0">
                <a:blip r:embed="rId36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493760" y="1973160"/>
                <a:ext cx="172440" cy="177840"/>
              </a:xfrm>
              <a:prstGeom prst="ellipse">
                <a:avLst/>
              </a:prstGeom>
              <a:blipFill rotWithShape="0">
                <a:blip r:embed="rId37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483320" y="2079720"/>
                <a:ext cx="172440" cy="179280"/>
              </a:xfrm>
              <a:prstGeom prst="ellipse">
                <a:avLst/>
              </a:prstGeom>
              <a:blipFill rotWithShape="0">
                <a:blip r:embed="rId38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535160" y="2178000"/>
                <a:ext cx="171000" cy="179280"/>
              </a:xfrm>
              <a:prstGeom prst="ellipse">
                <a:avLst/>
              </a:prstGeom>
              <a:blipFill rotWithShape="0">
                <a:blip r:embed="rId39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15960" y="2049480"/>
                <a:ext cx="172800" cy="177840"/>
              </a:xfrm>
              <a:prstGeom prst="ellipse">
                <a:avLst/>
              </a:prstGeom>
              <a:blipFill rotWithShape="0">
                <a:blip r:embed="rId40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761240" y="2174760"/>
                <a:ext cx="172440" cy="179640"/>
              </a:xfrm>
              <a:prstGeom prst="ellipse">
                <a:avLst/>
              </a:prstGeom>
              <a:blipFill rotWithShape="0">
                <a:blip r:embed="rId41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6015960" y="2000160"/>
              <a:ext cx="219960" cy="228600"/>
            </a:xfrm>
            <a:prstGeom prst="ellipse">
              <a:avLst/>
            </a:prstGeom>
            <a:blipFill rotWithShape="0">
              <a:blip r:embed="rId42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17920" y="1828800"/>
              <a:ext cx="219960" cy="228600"/>
            </a:xfrm>
            <a:prstGeom prst="ellipse">
              <a:avLst/>
            </a:prstGeom>
            <a:blipFill rotWithShape="0">
              <a:blip r:embed="rId43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81200" y="2038320"/>
              <a:ext cx="219960" cy="228600"/>
            </a:xfrm>
            <a:prstGeom prst="ellipse">
              <a:avLst/>
            </a:prstGeom>
            <a:blipFill rotWithShape="0">
              <a:blip r:embed="rId44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47680" y="1924200"/>
              <a:ext cx="219960" cy="228600"/>
            </a:xfrm>
            <a:prstGeom prst="ellipse">
              <a:avLst/>
            </a:prstGeom>
            <a:blipFill rotWithShape="0">
              <a:blip r:embed="rId45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34320" y="2209680"/>
              <a:ext cx="219960" cy="228600"/>
            </a:xfrm>
            <a:prstGeom prst="ellipse">
              <a:avLst/>
            </a:prstGeom>
            <a:blipFill rotWithShape="0">
              <a:blip r:embed="rId46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81200" y="2400480"/>
              <a:ext cx="219960" cy="228600"/>
            </a:xfrm>
            <a:prstGeom prst="ellipse">
              <a:avLst/>
            </a:prstGeom>
            <a:blipFill rotWithShape="0">
              <a:blip r:embed="rId47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37880" y="2476440"/>
              <a:ext cx="219960" cy="228600"/>
            </a:xfrm>
            <a:prstGeom prst="ellipse">
              <a:avLst/>
            </a:prstGeom>
            <a:blipFill rotWithShape="0">
              <a:blip r:embed="rId48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56240" y="1638360"/>
              <a:ext cx="219960" cy="228600"/>
            </a:xfrm>
            <a:prstGeom prst="ellipse">
              <a:avLst/>
            </a:prstGeom>
            <a:blipFill rotWithShape="0">
              <a:blip r:embed="rId49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58200" y="1733400"/>
              <a:ext cx="219960" cy="228600"/>
            </a:xfrm>
            <a:prstGeom prst="ellipse">
              <a:avLst/>
            </a:prstGeom>
            <a:blipFill rotWithShape="0">
              <a:blip r:embed="rId50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49640" y="1962000"/>
              <a:ext cx="219960" cy="228600"/>
            </a:xfrm>
            <a:prstGeom prst="ellipse">
              <a:avLst/>
            </a:prstGeom>
            <a:blipFill rotWithShape="0">
              <a:blip r:embed="rId51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68000" y="2190600"/>
              <a:ext cx="219960" cy="228600"/>
            </a:xfrm>
            <a:prstGeom prst="ellipse">
              <a:avLst/>
            </a:prstGeom>
            <a:blipFill rotWithShape="0">
              <a:blip r:embed="rId52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17920" y="2247840"/>
              <a:ext cx="219960" cy="228600"/>
            </a:xfrm>
            <a:prstGeom prst="ellipse">
              <a:avLst/>
            </a:prstGeom>
            <a:blipFill rotWithShape="0">
              <a:blip r:embed="rId53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19520" y="2305080"/>
              <a:ext cx="219960" cy="228600"/>
            </a:xfrm>
            <a:prstGeom prst="ellipse">
              <a:avLst/>
            </a:prstGeom>
            <a:blipFill rotWithShape="0">
              <a:blip r:embed="rId54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84400" y="2152800"/>
              <a:ext cx="219960" cy="228600"/>
            </a:xfrm>
            <a:prstGeom prst="ellipse">
              <a:avLst/>
            </a:prstGeom>
            <a:blipFill rotWithShape="0">
              <a:blip r:embed="rId55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82800" y="2038320"/>
              <a:ext cx="219960" cy="228600"/>
            </a:xfrm>
            <a:prstGeom prst="ellipse">
              <a:avLst/>
            </a:prstGeom>
            <a:blipFill rotWithShape="0">
              <a:blip r:embed="rId56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21120" y="2362320"/>
              <a:ext cx="219960" cy="228600"/>
            </a:xfrm>
            <a:prstGeom prst="ellipse">
              <a:avLst/>
            </a:prstGeom>
            <a:blipFill rotWithShape="0">
              <a:blip r:embed="rId57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01160" y="1809720"/>
              <a:ext cx="219960" cy="228600"/>
            </a:xfrm>
            <a:prstGeom prst="ellipse">
              <a:avLst/>
            </a:prstGeom>
            <a:blipFill rotWithShape="0">
              <a:blip r:embed="rId58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54640" y="1657440"/>
              <a:ext cx="183240" cy="190440"/>
            </a:xfrm>
            <a:prstGeom prst="ellipse">
              <a:avLst/>
            </a:prstGeom>
            <a:blipFill rotWithShape="0">
              <a:blip r:embed="rId59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52680" y="1828800"/>
              <a:ext cx="183240" cy="190440"/>
            </a:xfrm>
            <a:prstGeom prst="ellipse">
              <a:avLst/>
            </a:prstGeom>
            <a:blipFill rotWithShape="0">
              <a:blip r:embed="rId60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83400" y="1722600"/>
              <a:ext cx="307080" cy="318960"/>
            </a:xfrm>
            <a:prstGeom prst="ellipse">
              <a:avLst/>
            </a:prstGeom>
            <a:blipFill rotWithShape="0">
              <a:blip r:embed="rId61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66640" y="1957320"/>
              <a:ext cx="307440" cy="319320"/>
            </a:xfrm>
            <a:prstGeom prst="ellipse">
              <a:avLst/>
            </a:prstGeom>
            <a:blipFill rotWithShape="0">
              <a:blip r:embed="rId62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95960" y="2104920"/>
              <a:ext cx="307080" cy="319320"/>
            </a:xfrm>
            <a:prstGeom prst="ellipse">
              <a:avLst/>
            </a:prstGeom>
            <a:blipFill rotWithShape="0">
              <a:blip r:embed="rId63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96280" y="2208240"/>
              <a:ext cx="307080" cy="318960"/>
            </a:xfrm>
            <a:prstGeom prst="ellipse">
              <a:avLst/>
            </a:prstGeom>
            <a:blipFill rotWithShape="0">
              <a:blip r:embed="rId64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61680" y="2276640"/>
              <a:ext cx="307080" cy="318960"/>
            </a:xfrm>
            <a:prstGeom prst="ellipse">
              <a:avLst/>
            </a:prstGeom>
            <a:blipFill rotWithShape="0">
              <a:blip r:embed="rId65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38280" y="1711440"/>
              <a:ext cx="307440" cy="318960"/>
            </a:xfrm>
            <a:prstGeom prst="ellipse">
              <a:avLst/>
            </a:prstGeom>
            <a:blipFill rotWithShape="0">
              <a:blip r:embed="rId66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79040" y="1809720"/>
              <a:ext cx="308520" cy="318960"/>
            </a:xfrm>
            <a:prstGeom prst="ellipse">
              <a:avLst/>
            </a:prstGeom>
            <a:blipFill rotWithShape="0">
              <a:blip r:embed="rId67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24440" y="2178000"/>
              <a:ext cx="307080" cy="318960"/>
            </a:xfrm>
            <a:prstGeom prst="ellipse">
              <a:avLst/>
            </a:prstGeom>
            <a:blipFill rotWithShape="0">
              <a:blip r:embed="rId68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2240" y="1908000"/>
              <a:ext cx="308520" cy="319320"/>
            </a:xfrm>
            <a:prstGeom prst="ellipse">
              <a:avLst/>
            </a:prstGeom>
            <a:blipFill rotWithShape="0">
              <a:blip r:embed="rId69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337920" y="1676520"/>
              <a:ext cx="898200" cy="895320"/>
              <a:chOff x="3337920" y="1676520"/>
              <a:chExt cx="898200" cy="895320"/>
            </a:xfrm>
          </p:grpSpPr>
          <p:sp>
            <p:nvSpPr>
              <p:cNvPr id="521" name=""/>
              <p:cNvSpPr/>
              <p:nvPr/>
            </p:nvSpPr>
            <p:spPr>
              <a:xfrm>
                <a:off x="3356280" y="1676520"/>
                <a:ext cx="513000" cy="533160"/>
              </a:xfrm>
              <a:prstGeom prst="ellipse">
                <a:avLst/>
              </a:prstGeom>
              <a:blipFill rotWithShape="0">
                <a:blip r:embed="rId70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37920" y="2019240"/>
                <a:ext cx="513360" cy="533520"/>
              </a:xfrm>
              <a:prstGeom prst="ellipse">
                <a:avLst/>
              </a:prstGeom>
              <a:blipFill rotWithShape="0">
                <a:blip r:embed="rId71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22760" y="2038320"/>
                <a:ext cx="513360" cy="533520"/>
              </a:xfrm>
              <a:prstGeom prst="ellipse">
                <a:avLst/>
              </a:prstGeom>
              <a:blipFill rotWithShape="0">
                <a:blip r:embed="rId72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722760" y="1695600"/>
                <a:ext cx="513360" cy="533160"/>
              </a:xfrm>
              <a:prstGeom prst="ellipse">
                <a:avLst/>
              </a:prstGeom>
              <a:blipFill rotWithShape="0">
                <a:blip r:embed="rId73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1977480" y="1695600"/>
              <a:ext cx="832320" cy="895320"/>
              <a:chOff x="1977480" y="1695600"/>
              <a:chExt cx="832320" cy="895320"/>
            </a:xfrm>
          </p:grpSpPr>
          <p:sp>
            <p:nvSpPr>
              <p:cNvPr id="526" name=""/>
              <p:cNvSpPr/>
              <p:nvPr/>
            </p:nvSpPr>
            <p:spPr>
              <a:xfrm>
                <a:off x="1977480" y="1695600"/>
                <a:ext cx="529920" cy="869760"/>
              </a:xfrm>
              <a:prstGeom prst="ellipse">
                <a:avLst/>
              </a:prstGeom>
              <a:blipFill rotWithShape="0">
                <a:blip r:embed="rId74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279880" y="1720800"/>
                <a:ext cx="529920" cy="870120"/>
              </a:xfrm>
              <a:prstGeom prst="ellipse">
                <a:avLst/>
              </a:prstGeom>
              <a:blipFill rotWithShape="0">
                <a:blip r:embed="rId75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506880" y="1689120"/>
              <a:ext cx="892440" cy="927000"/>
            </a:xfrm>
            <a:prstGeom prst="ellipse">
              <a:avLst/>
            </a:prstGeom>
            <a:blipFill rotWithShape="0">
              <a:blip r:embed="rId76"/>
              <a:srcRect/>
              <a:stretch/>
            </a:blipFill>
            <a:ln w="1260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7800" y="2001960"/>
              <a:ext cx="178560" cy="266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32840" y="2054160"/>
              <a:ext cx="178560" cy="26676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81520" y="2013120"/>
              <a:ext cx="178560" cy="266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85080" y="2009880"/>
              <a:ext cx="178560" cy="26676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27640" y="1838160"/>
              <a:ext cx="106560" cy="16056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27960" y="1909800"/>
              <a:ext cx="106920" cy="1602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36640" y="2230560"/>
              <a:ext cx="106920" cy="1602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09600" y="2230560"/>
              <a:ext cx="106920" cy="1602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8680" y="1835280"/>
              <a:ext cx="53280" cy="810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72480" y="2076480"/>
              <a:ext cx="53280" cy="810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16920" y="2228760"/>
              <a:ext cx="53280" cy="810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16920" y="1949400"/>
              <a:ext cx="53280" cy="810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45040" y="2309760"/>
              <a:ext cx="53640" cy="810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06080" y="2022480"/>
              <a:ext cx="53640" cy="810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85520" y="2394000"/>
              <a:ext cx="53280" cy="810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53120" y="1828800"/>
              <a:ext cx="53640" cy="810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29000" y="191124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46080" y="1749600"/>
              <a:ext cx="2772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00360" y="191772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75880" y="213984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6840" y="212076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01640" y="210492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17120" y="2289240"/>
              <a:ext cx="2736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09360" y="235260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25160" y="246060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41920" y="1727280"/>
              <a:ext cx="2736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8440" y="189540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69280" y="236844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01960" y="259380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82320" y="204156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63640" y="250812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47560" y="2289240"/>
              <a:ext cx="2736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10040" y="226836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38200" y="207000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7360" y="183816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82520" y="210168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15520" y="180648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20360" y="191772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33760" y="206676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81920" y="226836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65280" y="245412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64960" y="185724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11480" y="2009880"/>
              <a:ext cx="2772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25000" y="230976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722000" y="2117880"/>
              <a:ext cx="2736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56280" y="226836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20840" y="226836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16320" y="202248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05240" y="213660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58720" y="216216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59640" y="2149560"/>
              <a:ext cx="2772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29840" y="242568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7160" y="2289240"/>
              <a:ext cx="2772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52240" y="1959120"/>
              <a:ext cx="2736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63680" y="1974960"/>
              <a:ext cx="2772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338760" y="2152800"/>
              <a:ext cx="2772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770320" y="230976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874360" y="247320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831520" y="1971720"/>
              <a:ext cx="2772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42480" y="190188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124920" y="249552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706240" y="2133720"/>
              <a:ext cx="27360" cy="410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226080" y="197172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277920" y="2355840"/>
              <a:ext cx="27360" cy="414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930880" y="2311560"/>
              <a:ext cx="24480" cy="3636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79840" y="2387520"/>
              <a:ext cx="24480" cy="3672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992080" y="2279520"/>
              <a:ext cx="24480" cy="3672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043920" y="2292480"/>
              <a:ext cx="24480" cy="3636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105120" y="2292480"/>
              <a:ext cx="24120" cy="3636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123480" y="2368440"/>
              <a:ext cx="24120" cy="3672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909280" y="2362320"/>
              <a:ext cx="24480" cy="3636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013320" y="2352600"/>
              <a:ext cx="24480" cy="3672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68400" y="2403360"/>
              <a:ext cx="24120" cy="3672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33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79880" y="3886200"/>
            <a:ext cx="8468640" cy="282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Maternal mRNA is stored in the ooplasm and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is gradually used during early develop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Embryonic transcription begins only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at the 8-16 cell stage in cow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Polyadenylation is a mechanism regulating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mRNA stability and timely transcrip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1371600"/>
            <a:ext cx="9891720" cy="0"/>
          </a:xfrm>
          <a:prstGeom prst="line">
            <a:avLst/>
          </a:prstGeom>
          <a:ln w="255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206280" y="1295280"/>
          <a:ext cx="9493200" cy="38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295280"/>
                    <a:ext cx="949320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99000" y="473040"/>
            <a:ext cx="89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Post-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ranscriptional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control of gene expr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7" name=""/>
          <p:cNvSpPr/>
          <p:nvPr/>
        </p:nvSpPr>
        <p:spPr>
          <a:xfrm>
            <a:off x="1106640" y="5425920"/>
            <a:ext cx="76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5’ CAP and 3’ PolyA interact together to control mRNA decay: both are potential target of E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875960" y="512280"/>
            <a:ext cx="6148440" cy="101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afd00"/>
                </a:solidFill>
                <a:latin typeface="Book Antiqua"/>
              </a:rPr>
              <a:t>PCR - Poly(A) Test:</a:t>
            </a:r>
            <a:br>
              <a:rPr sz="4400"/>
            </a:br>
            <a:r>
              <a:rPr b="1" lang="it-IT" sz="3600" spc="-1" strike="noStrike">
                <a:solidFill>
                  <a:srgbClr val="fafd00"/>
                </a:solidFill>
                <a:latin typeface="Book Antiqua"/>
              </a:rPr>
              <a:t>mRNAs Examined </a:t>
            </a:r>
            <a:r>
              <a:rPr b="1" lang="it-IT" sz="4400" spc="-1" strike="noStrike">
                <a:solidFill>
                  <a:srgbClr val="fafd00"/>
                </a:solidFill>
                <a:latin typeface="Book Antiqua"/>
              </a:rPr>
              <a:t>      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43040" y="2031840"/>
            <a:ext cx="8750160" cy="459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-Actin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-ACT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Pyruv. Dehydrog. 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Phosf.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PDP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Connexin 43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Cx43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Plakoglobin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Plk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Connexin 32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Cx32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Glucose transporter type 1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GT-ty1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Heat Shock Protein 70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HSP70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Transcription Factor Oct-4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Oct-4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Poly(A)-Polymerase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Book Antiqua"/>
              </a:rPr>
              <a:t>PAP</a:t>
            </a:r>
            <a:endParaRPr b="1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10" name=""/>
          <p:cNvSpPr/>
          <p:nvPr/>
        </p:nvSpPr>
        <p:spPr>
          <a:xfrm>
            <a:off x="20520" y="3051000"/>
            <a:ext cx="9796680" cy="0"/>
          </a:xfrm>
          <a:prstGeom prst="line">
            <a:avLst/>
          </a:prstGeom>
          <a:ln w="25560">
            <a:solidFill>
              <a:srgbClr val="faf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1" name=""/>
          <p:cNvSpPr/>
          <p:nvPr/>
        </p:nvSpPr>
        <p:spPr>
          <a:xfrm>
            <a:off x="14400" y="4462560"/>
            <a:ext cx="9796320" cy="0"/>
          </a:xfrm>
          <a:prstGeom prst="line">
            <a:avLst/>
          </a:prstGeom>
          <a:ln w="25560">
            <a:solidFill>
              <a:srgbClr val="faf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2" name=""/>
          <p:cNvSpPr/>
          <p:nvPr/>
        </p:nvSpPr>
        <p:spPr>
          <a:xfrm>
            <a:off x="14400" y="5494320"/>
            <a:ext cx="9796320" cy="0"/>
          </a:xfrm>
          <a:prstGeom prst="line">
            <a:avLst/>
          </a:prstGeom>
          <a:ln w="25560">
            <a:solidFill>
              <a:srgbClr val="faf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1040" y="30456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Palatino"/>
              </a:rPr>
              <a:t>Sources of contamination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8200" y="1295280"/>
            <a:ext cx="3962520" cy="255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8080" y="4361040"/>
            <a:ext cx="3879720" cy="2149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40360" y="1295280"/>
            <a:ext cx="4327560" cy="2560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295880" y="4332240"/>
            <a:ext cx="172548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230880" y="4363920"/>
            <a:ext cx="3467160" cy="214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29760" y="609120"/>
            <a:ext cx="48070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edf50a"/>
                </a:solidFill>
                <a:latin typeface="Palatino"/>
              </a:rPr>
              <a:t> </a:t>
            </a:r>
            <a:r>
              <a:rPr b="1" lang="it-IT" sz="4400" spc="-1" strike="noStrike">
                <a:solidFill>
                  <a:srgbClr val="edf50a"/>
                </a:solidFill>
                <a:latin typeface="Palatino"/>
              </a:rPr>
              <a:t>PCBs disrupt polyadenylation levels of some maternal mRNA molecules 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5208480" y="200160"/>
            <a:ext cx="3106800" cy="65815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8240760" y="1523880"/>
            <a:ext cx="880920" cy="0"/>
          </a:xfrm>
          <a:prstGeom prst="line">
            <a:avLst/>
          </a:prstGeom>
          <a:ln w="4140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6" name=""/>
          <p:cNvSpPr/>
          <p:nvPr/>
        </p:nvSpPr>
        <p:spPr>
          <a:xfrm>
            <a:off x="8240760" y="2057400"/>
            <a:ext cx="880920" cy="0"/>
          </a:xfrm>
          <a:prstGeom prst="line">
            <a:avLst/>
          </a:prstGeom>
          <a:ln w="41400">
            <a:solidFill>
              <a:srgbClr val="39fa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7" name=""/>
          <p:cNvSpPr/>
          <p:nvPr/>
        </p:nvSpPr>
        <p:spPr>
          <a:xfrm>
            <a:off x="8240760" y="2590920"/>
            <a:ext cx="880920" cy="0"/>
          </a:xfrm>
          <a:prstGeom prst="line">
            <a:avLst/>
          </a:prstGeom>
          <a:ln w="41400">
            <a:solidFill>
              <a:srgbClr val="2dcc0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8" name=""/>
          <p:cNvSpPr/>
          <p:nvPr/>
        </p:nvSpPr>
        <p:spPr>
          <a:xfrm>
            <a:off x="8240760" y="3124080"/>
            <a:ext cx="880920" cy="0"/>
          </a:xfrm>
          <a:prstGeom prst="line">
            <a:avLst/>
          </a:prstGeom>
          <a:ln w="41400">
            <a:solidFill>
              <a:srgbClr val="2dcc0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9" name=""/>
          <p:cNvSpPr/>
          <p:nvPr/>
        </p:nvSpPr>
        <p:spPr>
          <a:xfrm>
            <a:off x="8240760" y="3657600"/>
            <a:ext cx="880920" cy="0"/>
          </a:xfrm>
          <a:prstGeom prst="line">
            <a:avLst/>
          </a:prstGeom>
          <a:ln w="41400">
            <a:solidFill>
              <a:srgbClr val="2dcc0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998800" y="1066320"/>
            <a:ext cx="7485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Palatino"/>
              </a:rPr>
              <a:t>Summary 2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11040" y="4038480"/>
            <a:ext cx="74833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</a:rPr>
              <a:t>Changes of mRNA polyadenylation are linked with changes in protein synthesis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</a:rPr>
              <a:t>PCB-induced poly(A) changes are likely to be responsible for altered cytoplasmic maturation of exposed oocytes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227160" y="263520"/>
            <a:ext cx="4478040" cy="347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Palatino"/>
              </a:rPr>
              <a:t>How do PCBs interact with the oocyte?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24" name=""/>
          <p:cNvSpPr/>
          <p:nvPr/>
        </p:nvSpPr>
        <p:spPr>
          <a:xfrm>
            <a:off x="2228760" y="2851200"/>
            <a:ext cx="546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Palatino"/>
              </a:rPr>
              <a:t>The Arylhydrocarbon </a:t>
            </a:r>
            <a:br>
              <a:rPr sz="4400"/>
            </a:br>
            <a:r>
              <a:rPr b="1" lang="it-IT" sz="4400" spc="-1" strike="noStrike">
                <a:solidFill>
                  <a:srgbClr val="ffffff"/>
                </a:solidFill>
                <a:latin typeface="Palatino"/>
              </a:rPr>
              <a:t>Receptor (AhR) System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360" y="1447560"/>
            <a:ext cx="42098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The Aryl -hydrocarbon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receptor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4919760" y="438120"/>
            <a:ext cx="4243320" cy="596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11040" y="76176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6600" spc="-1" strike="noStrike">
                <a:solidFill>
                  <a:srgbClr val="ffff00"/>
                </a:solidFill>
                <a:latin typeface="Palatino"/>
              </a:rPr>
              <a:t>Questions</a:t>
            </a:r>
            <a:endParaRPr b="1" lang="en-US" sz="66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2560" y="2819520"/>
            <a:ext cx="8832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Palatino"/>
              </a:rPr>
              <a:t>Is the AhR system present in bovine ovary?</a:t>
            </a:r>
            <a:endParaRPr b="1" lang="en-US" sz="40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Palatino"/>
              </a:rPr>
              <a:t>Do PCBs act through the AhR?</a:t>
            </a:r>
            <a:endParaRPr b="1" lang="en-US" sz="4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7560" y="457200"/>
            <a:ext cx="80074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Palatino"/>
              </a:rPr>
              <a:t>AhR mRNA is present in oocytes and cumulus cells</a:t>
            </a:r>
            <a:endParaRPr b="1" lang="en-US" sz="28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30" name=""/>
          <p:cNvSpPr/>
          <p:nvPr/>
        </p:nvSpPr>
        <p:spPr>
          <a:xfrm>
            <a:off x="1347840" y="4648320"/>
            <a:ext cx="715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Palatino"/>
              </a:rPr>
              <a:t>ARNT mRNA is present only in cumulus ce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593720" y="1295280"/>
            <a:ext cx="7899480" cy="28828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632" name=""/>
          <p:cNvSpPr/>
          <p:nvPr/>
        </p:nvSpPr>
        <p:spPr>
          <a:xfrm>
            <a:off x="1343160" y="5486400"/>
            <a:ext cx="67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Palatino"/>
              </a:rPr>
              <a:t>Their levels are not affected </a:t>
            </a: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Palatino"/>
              </a:rPr>
              <a:t>by PCB exposur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3" name=""/>
          <p:cNvSpPr/>
          <p:nvPr/>
        </p:nvSpPr>
        <p:spPr>
          <a:xfrm>
            <a:off x="247680" y="16002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Palatino"/>
              </a:rPr>
              <a:t>Ah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4" name=""/>
          <p:cNvSpPr/>
          <p:nvPr/>
        </p:nvSpPr>
        <p:spPr>
          <a:xfrm>
            <a:off x="150120" y="281952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Palatino"/>
              </a:rPr>
              <a:t>AR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47680" y="228240"/>
            <a:ext cx="908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Palatino"/>
              </a:rPr>
              <a:t>AhR is detected both in oocyte and granulosa cells in follicles of all sizes</a:t>
            </a:r>
            <a:endParaRPr b="1" lang="en-US" sz="3600" spc="-1" strike="noStrike">
              <a:solidFill>
                <a:srgbClr val="ffff00"/>
              </a:solidFill>
              <a:latin typeface="Palatino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03040" y="1650960"/>
            <a:ext cx="2986200" cy="360684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421080" y="1650960"/>
            <a:ext cx="3017880" cy="360684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1155600" y="5486400"/>
            <a:ext cx="748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Palatino"/>
              </a:rPr>
              <a:t>But is absent from theca cells and strom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6648480" y="1650960"/>
            <a:ext cx="2762280" cy="29973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7031880" y="47102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Palatino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Palatino"/>
              </a:rPr>
              <a:t>ARNT is restricted to granulosa cells</a:t>
            </a:r>
            <a:endParaRPr b="1" lang="en-US" sz="3600" spc="-1" strike="noStrike">
              <a:solidFill>
                <a:srgbClr val="ffff00"/>
              </a:solidFill>
              <a:latin typeface="Palatino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3219480" y="2057400"/>
            <a:ext cx="2855880" cy="33526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6230880" y="205740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82440" y="2057400"/>
            <a:ext cx="2818080" cy="33415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1182600" y="5715000"/>
            <a:ext cx="748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Palatino"/>
              </a:rPr>
              <a:t>And is localized in the nucleu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304560"/>
            <a:ext cx="908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Palatino"/>
              </a:rPr>
              <a:t>PCB treatment does not stimulate AhR target gene expression</a:t>
            </a:r>
            <a:endParaRPr b="1" lang="en-US" sz="4000" spc="-1" strike="noStrike">
              <a:solidFill>
                <a:srgbClr val="ffff00"/>
              </a:solidFill>
              <a:latin typeface="Palatino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-360" y="1600200"/>
            <a:ext cx="6694560" cy="2743200"/>
            <a:chOff x="-360" y="1600200"/>
            <a:chExt cx="6694560" cy="2743200"/>
          </a:xfrm>
        </p:grpSpPr>
        <p:pic>
          <p:nvPicPr>
            <p:cNvPr id="648" name="" descr=""/>
            <p:cNvPicPr/>
            <p:nvPr/>
          </p:nvPicPr>
          <p:blipFill>
            <a:blip r:embed="rId1"/>
            <a:stretch/>
          </p:blipFill>
          <p:spPr>
            <a:xfrm>
              <a:off x="17640" y="1600200"/>
              <a:ext cx="66765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-360" y="2305080"/>
              <a:ext cx="107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Cyp1A1</a:t>
              </a:r>
              <a:endParaRPr b="0" lang="en-US" sz="2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-360" y="3304800"/>
              <a:ext cx="107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Cyp1A2</a:t>
              </a:r>
              <a:endParaRPr b="0" lang="en-US" sz="2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200560" y="4051440"/>
            <a:ext cx="4071960" cy="250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Palatino"/>
              </a:rPr>
              <a:t>Summary 3</a:t>
            </a:r>
            <a:r>
              <a:rPr b="1" lang="it-IT" sz="4400" spc="-1" strike="noStrike">
                <a:solidFill>
                  <a:srgbClr val="ffff00"/>
                </a:solidFill>
                <a:latin typeface="Palatino"/>
              </a:rPr>
              <a:t>	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Palatino"/>
              </a:rPr>
              <a:t>The AhR system is present in bovine ovary</a:t>
            </a: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Palatino"/>
              </a:rPr>
              <a:t>The system is complete only in the cumulus cells</a:t>
            </a: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Palatino"/>
              </a:rPr>
              <a:t>PCB treatment cannot induce a response</a:t>
            </a: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Palatino"/>
              </a:rPr>
              <a:t>PCBs must act through a different pathway</a:t>
            </a:r>
            <a:endParaRPr b="1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Type and Consequences of Contamination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59" name=""/>
          <p:cNvSpPr/>
          <p:nvPr/>
        </p:nvSpPr>
        <p:spPr>
          <a:xfrm>
            <a:off x="5170320" y="358128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Health risk for animals: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.e. lower reproductive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isk of exposure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for human consum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422640" y="2251080"/>
            <a:ext cx="83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ow dose exposure for prolonged perio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76280" y="50760"/>
            <a:ext cx="842004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afd00"/>
                </a:solidFill>
                <a:latin typeface="Book Antiqua"/>
              </a:rPr>
              <a:t>Conclusions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5" name=""/>
          <p:cNvSpPr/>
          <p:nvPr/>
        </p:nvSpPr>
        <p:spPr>
          <a:xfrm>
            <a:off x="495360" y="1325520"/>
            <a:ext cx="8667720" cy="528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Palatino"/>
              </a:rPr>
              <a:t>Brief exposure to low concentrations of PCBs are enough to induce a severe alteration of oocyte developmental competenc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Palatino"/>
              </a:rPr>
              <a:t>These results were obtained in vitro and must be related with actual PCB exposure levels determined in living animal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Palatino"/>
              </a:rPr>
              <a:t>Some of the mechanisms have begun to be unravelled but many more need further elucida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211400" y="1049400"/>
            <a:ext cx="7483320" cy="46051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3892320" y="593244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Palatino"/>
              </a:rPr>
              <a:t>Ways of contamination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4191120"/>
            <a:ext cx="88329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ngestion of sewage sludge itself from the soil surface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wage sludge adhered to plant leaves 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xic substances accumulated within the plant tissue during growth </a:t>
            </a:r>
            <a:endParaRPr b="1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86080" y="1905120"/>
            <a:ext cx="190152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92320" y="3421080"/>
            <a:ext cx="2476440" cy="498600"/>
          </a:xfrm>
          <a:custGeom>
            <a:avLst/>
            <a:gdLst/>
            <a:ahLst/>
            <a:rect l="l" t="t" r="r" b="b"/>
            <a:pathLst>
              <a:path w="1440" h="314">
                <a:moveTo>
                  <a:pt x="54" y="149"/>
                </a:moveTo>
                <a:cubicBezTo>
                  <a:pt x="171" y="110"/>
                  <a:pt x="231" y="102"/>
                  <a:pt x="310" y="0"/>
                </a:cubicBezTo>
                <a:cubicBezTo>
                  <a:pt x="324" y="7"/>
                  <a:pt x="340" y="9"/>
                  <a:pt x="352" y="21"/>
                </a:cubicBezTo>
                <a:cubicBezTo>
                  <a:pt x="402" y="71"/>
                  <a:pt x="341" y="59"/>
                  <a:pt x="406" y="106"/>
                </a:cubicBezTo>
                <a:cubicBezTo>
                  <a:pt x="417" y="114"/>
                  <a:pt x="434" y="113"/>
                  <a:pt x="448" y="117"/>
                </a:cubicBezTo>
                <a:cubicBezTo>
                  <a:pt x="578" y="85"/>
                  <a:pt x="504" y="93"/>
                  <a:pt x="672" y="106"/>
                </a:cubicBezTo>
                <a:cubicBezTo>
                  <a:pt x="739" y="97"/>
                  <a:pt x="770" y="86"/>
                  <a:pt x="832" y="64"/>
                </a:cubicBezTo>
                <a:cubicBezTo>
                  <a:pt x="853" y="56"/>
                  <a:pt x="896" y="42"/>
                  <a:pt x="896" y="42"/>
                </a:cubicBezTo>
                <a:cubicBezTo>
                  <a:pt x="1030" y="76"/>
                  <a:pt x="863" y="42"/>
                  <a:pt x="971" y="42"/>
                </a:cubicBezTo>
                <a:cubicBezTo>
                  <a:pt x="1067" y="42"/>
                  <a:pt x="1163" y="49"/>
                  <a:pt x="1259" y="53"/>
                </a:cubicBezTo>
                <a:cubicBezTo>
                  <a:pt x="1321" y="63"/>
                  <a:pt x="1393" y="70"/>
                  <a:pt x="1440" y="117"/>
                </a:cubicBezTo>
                <a:lnTo>
                  <a:pt x="1419" y="197"/>
                </a:lnTo>
                <a:cubicBezTo>
                  <a:pt x="1415" y="184"/>
                  <a:pt x="1419" y="165"/>
                  <a:pt x="1408" y="160"/>
                </a:cubicBezTo>
                <a:cubicBezTo>
                  <a:pt x="1377" y="144"/>
                  <a:pt x="1334" y="202"/>
                  <a:pt x="1312" y="213"/>
                </a:cubicBezTo>
                <a:cubicBezTo>
                  <a:pt x="1216" y="256"/>
                  <a:pt x="1223" y="245"/>
                  <a:pt x="1110" y="256"/>
                </a:cubicBezTo>
                <a:cubicBezTo>
                  <a:pt x="869" y="238"/>
                  <a:pt x="891" y="235"/>
                  <a:pt x="576" y="245"/>
                </a:cubicBezTo>
                <a:cubicBezTo>
                  <a:pt x="459" y="285"/>
                  <a:pt x="315" y="266"/>
                  <a:pt x="192" y="288"/>
                </a:cubicBezTo>
                <a:cubicBezTo>
                  <a:pt x="50" y="278"/>
                  <a:pt x="35" y="314"/>
                  <a:pt x="0" y="213"/>
                </a:cubicBezTo>
                <a:cubicBezTo>
                  <a:pt x="3" y="191"/>
                  <a:pt x="0" y="167"/>
                  <a:pt x="11" y="149"/>
                </a:cubicBezTo>
                <a:cubicBezTo>
                  <a:pt x="22" y="129"/>
                  <a:pt x="77" y="140"/>
                  <a:pt x="86" y="149"/>
                </a:cubicBezTo>
                <a:cubicBezTo>
                  <a:pt x="93" y="156"/>
                  <a:pt x="64" y="149"/>
                  <a:pt x="54" y="149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994200" y="1905120"/>
            <a:ext cx="1972800" cy="1981080"/>
            <a:chOff x="3994200" y="1905120"/>
            <a:chExt cx="1972800" cy="198108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4043880" y="1905120"/>
              <a:ext cx="19004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994200" y="2100240"/>
              <a:ext cx="1972800" cy="1031760"/>
            </a:xfrm>
            <a:custGeom>
              <a:avLst/>
              <a:gdLst/>
              <a:ahLst/>
              <a:rect l="l" t="t" r="r" b="b"/>
              <a:pathLst>
                <a:path w="1148" h="650">
                  <a:moveTo>
                    <a:pt x="409" y="480"/>
                  </a:moveTo>
                  <a:cubicBezTo>
                    <a:pt x="342" y="495"/>
                    <a:pt x="354" y="484"/>
                    <a:pt x="313" y="533"/>
                  </a:cubicBezTo>
                  <a:cubicBezTo>
                    <a:pt x="299" y="548"/>
                    <a:pt x="270" y="576"/>
                    <a:pt x="270" y="576"/>
                  </a:cubicBezTo>
                  <a:cubicBezTo>
                    <a:pt x="255" y="617"/>
                    <a:pt x="249" y="636"/>
                    <a:pt x="206" y="650"/>
                  </a:cubicBezTo>
                  <a:cubicBezTo>
                    <a:pt x="226" y="549"/>
                    <a:pt x="257" y="561"/>
                    <a:pt x="334" y="469"/>
                  </a:cubicBezTo>
                  <a:cubicBezTo>
                    <a:pt x="355" y="443"/>
                    <a:pt x="387" y="384"/>
                    <a:pt x="387" y="384"/>
                  </a:cubicBezTo>
                  <a:cubicBezTo>
                    <a:pt x="383" y="373"/>
                    <a:pt x="387" y="354"/>
                    <a:pt x="377" y="352"/>
                  </a:cubicBezTo>
                  <a:cubicBezTo>
                    <a:pt x="358" y="347"/>
                    <a:pt x="307" y="426"/>
                    <a:pt x="291" y="437"/>
                  </a:cubicBezTo>
                  <a:cubicBezTo>
                    <a:pt x="259" y="457"/>
                    <a:pt x="196" y="478"/>
                    <a:pt x="163" y="490"/>
                  </a:cubicBezTo>
                  <a:cubicBezTo>
                    <a:pt x="152" y="493"/>
                    <a:pt x="131" y="501"/>
                    <a:pt x="131" y="501"/>
                  </a:cubicBezTo>
                  <a:cubicBezTo>
                    <a:pt x="124" y="499"/>
                    <a:pt x="0" y="500"/>
                    <a:pt x="78" y="437"/>
                  </a:cubicBezTo>
                  <a:cubicBezTo>
                    <a:pt x="129" y="394"/>
                    <a:pt x="227" y="383"/>
                    <a:pt x="291" y="362"/>
                  </a:cubicBezTo>
                  <a:cubicBezTo>
                    <a:pt x="287" y="351"/>
                    <a:pt x="290" y="336"/>
                    <a:pt x="281" y="330"/>
                  </a:cubicBezTo>
                  <a:cubicBezTo>
                    <a:pt x="262" y="316"/>
                    <a:pt x="217" y="309"/>
                    <a:pt x="217" y="309"/>
                  </a:cubicBezTo>
                  <a:cubicBezTo>
                    <a:pt x="195" y="280"/>
                    <a:pt x="176" y="250"/>
                    <a:pt x="153" y="224"/>
                  </a:cubicBezTo>
                  <a:cubicBezTo>
                    <a:pt x="144" y="214"/>
                    <a:pt x="129" y="212"/>
                    <a:pt x="121" y="202"/>
                  </a:cubicBezTo>
                  <a:cubicBezTo>
                    <a:pt x="113" y="193"/>
                    <a:pt x="99" y="174"/>
                    <a:pt x="110" y="170"/>
                  </a:cubicBezTo>
                  <a:cubicBezTo>
                    <a:pt x="130" y="162"/>
                    <a:pt x="152" y="177"/>
                    <a:pt x="174" y="181"/>
                  </a:cubicBezTo>
                  <a:cubicBezTo>
                    <a:pt x="212" y="200"/>
                    <a:pt x="234" y="221"/>
                    <a:pt x="270" y="245"/>
                  </a:cubicBezTo>
                  <a:cubicBezTo>
                    <a:pt x="277" y="255"/>
                    <a:pt x="280" y="270"/>
                    <a:pt x="291" y="277"/>
                  </a:cubicBezTo>
                  <a:cubicBezTo>
                    <a:pt x="310" y="288"/>
                    <a:pt x="355" y="298"/>
                    <a:pt x="355" y="298"/>
                  </a:cubicBezTo>
                  <a:cubicBezTo>
                    <a:pt x="453" y="290"/>
                    <a:pt x="532" y="307"/>
                    <a:pt x="569" y="202"/>
                  </a:cubicBezTo>
                  <a:cubicBezTo>
                    <a:pt x="522" y="157"/>
                    <a:pt x="489" y="201"/>
                    <a:pt x="430" y="181"/>
                  </a:cubicBezTo>
                  <a:cubicBezTo>
                    <a:pt x="409" y="122"/>
                    <a:pt x="446" y="58"/>
                    <a:pt x="462" y="0"/>
                  </a:cubicBezTo>
                  <a:cubicBezTo>
                    <a:pt x="498" y="8"/>
                    <a:pt x="532" y="24"/>
                    <a:pt x="569" y="32"/>
                  </a:cubicBezTo>
                  <a:cubicBezTo>
                    <a:pt x="686" y="55"/>
                    <a:pt x="640" y="41"/>
                    <a:pt x="707" y="64"/>
                  </a:cubicBezTo>
                  <a:cubicBezTo>
                    <a:pt x="726" y="122"/>
                    <a:pt x="762" y="107"/>
                    <a:pt x="825" y="117"/>
                  </a:cubicBezTo>
                  <a:cubicBezTo>
                    <a:pt x="828" y="127"/>
                    <a:pt x="839" y="138"/>
                    <a:pt x="835" y="149"/>
                  </a:cubicBezTo>
                  <a:cubicBezTo>
                    <a:pt x="824" y="173"/>
                    <a:pt x="762" y="162"/>
                    <a:pt x="825" y="202"/>
                  </a:cubicBezTo>
                  <a:cubicBezTo>
                    <a:pt x="844" y="213"/>
                    <a:pt x="867" y="216"/>
                    <a:pt x="889" y="224"/>
                  </a:cubicBezTo>
                  <a:cubicBezTo>
                    <a:pt x="899" y="227"/>
                    <a:pt x="921" y="234"/>
                    <a:pt x="921" y="234"/>
                  </a:cubicBezTo>
                  <a:cubicBezTo>
                    <a:pt x="913" y="255"/>
                    <a:pt x="912" y="279"/>
                    <a:pt x="899" y="298"/>
                  </a:cubicBezTo>
                  <a:cubicBezTo>
                    <a:pt x="892" y="307"/>
                    <a:pt x="870" y="298"/>
                    <a:pt x="867" y="309"/>
                  </a:cubicBezTo>
                  <a:cubicBezTo>
                    <a:pt x="863" y="318"/>
                    <a:pt x="879" y="328"/>
                    <a:pt x="889" y="330"/>
                  </a:cubicBezTo>
                  <a:cubicBezTo>
                    <a:pt x="945" y="339"/>
                    <a:pt x="1002" y="337"/>
                    <a:pt x="1059" y="341"/>
                  </a:cubicBezTo>
                  <a:cubicBezTo>
                    <a:pt x="1148" y="384"/>
                    <a:pt x="1113" y="352"/>
                    <a:pt x="974" y="448"/>
                  </a:cubicBezTo>
                  <a:cubicBezTo>
                    <a:pt x="929" y="479"/>
                    <a:pt x="909" y="487"/>
                    <a:pt x="857" y="501"/>
                  </a:cubicBezTo>
                  <a:cubicBezTo>
                    <a:pt x="797" y="480"/>
                    <a:pt x="774" y="432"/>
                    <a:pt x="761" y="373"/>
                  </a:cubicBezTo>
                  <a:cubicBezTo>
                    <a:pt x="756" y="351"/>
                    <a:pt x="758" y="328"/>
                    <a:pt x="750" y="309"/>
                  </a:cubicBezTo>
                  <a:cubicBezTo>
                    <a:pt x="743" y="295"/>
                    <a:pt x="728" y="287"/>
                    <a:pt x="718" y="277"/>
                  </a:cubicBezTo>
                  <a:cubicBezTo>
                    <a:pt x="654" y="280"/>
                    <a:pt x="589" y="280"/>
                    <a:pt x="526" y="288"/>
                  </a:cubicBezTo>
                  <a:cubicBezTo>
                    <a:pt x="459" y="296"/>
                    <a:pt x="434" y="344"/>
                    <a:pt x="377" y="362"/>
                  </a:cubicBezTo>
                  <a:cubicBezTo>
                    <a:pt x="362" y="405"/>
                    <a:pt x="373" y="437"/>
                    <a:pt x="387" y="480"/>
                  </a:cubicBezTo>
                  <a:cubicBezTo>
                    <a:pt x="383" y="497"/>
                    <a:pt x="385" y="517"/>
                    <a:pt x="377" y="533"/>
                  </a:cubicBezTo>
                  <a:cubicBezTo>
                    <a:pt x="370" y="544"/>
                    <a:pt x="354" y="546"/>
                    <a:pt x="345" y="554"/>
                  </a:cubicBezTo>
                  <a:cubicBezTo>
                    <a:pt x="344" y="554"/>
                    <a:pt x="302" y="596"/>
                    <a:pt x="302" y="597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600960" y="1905120"/>
            <a:ext cx="1901160" cy="1981080"/>
            <a:chOff x="6600960" y="1905120"/>
            <a:chExt cx="1901160" cy="1981080"/>
          </a:xfrm>
        </p:grpSpPr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6600960" y="1905120"/>
              <a:ext cx="19011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779520" y="2265480"/>
              <a:ext cx="1401120" cy="1595160"/>
            </a:xfrm>
            <a:custGeom>
              <a:avLst/>
              <a:gdLst/>
              <a:ahLst/>
              <a:rect l="l" t="t" r="r" b="b"/>
              <a:pathLst>
                <a:path w="815" h="1005">
                  <a:moveTo>
                    <a:pt x="442" y="1005"/>
                  </a:moveTo>
                  <a:cubicBezTo>
                    <a:pt x="410" y="852"/>
                    <a:pt x="531" y="609"/>
                    <a:pt x="410" y="482"/>
                  </a:cubicBezTo>
                  <a:cubicBezTo>
                    <a:pt x="404" y="465"/>
                    <a:pt x="394" y="428"/>
                    <a:pt x="378" y="418"/>
                  </a:cubicBezTo>
                  <a:cubicBezTo>
                    <a:pt x="337" y="392"/>
                    <a:pt x="290" y="391"/>
                    <a:pt x="250" y="365"/>
                  </a:cubicBezTo>
                  <a:cubicBezTo>
                    <a:pt x="196" y="399"/>
                    <a:pt x="223" y="406"/>
                    <a:pt x="186" y="450"/>
                  </a:cubicBezTo>
                  <a:cubicBezTo>
                    <a:pt x="172" y="465"/>
                    <a:pt x="143" y="493"/>
                    <a:pt x="143" y="493"/>
                  </a:cubicBezTo>
                  <a:cubicBezTo>
                    <a:pt x="170" y="412"/>
                    <a:pt x="130" y="508"/>
                    <a:pt x="186" y="440"/>
                  </a:cubicBezTo>
                  <a:cubicBezTo>
                    <a:pt x="193" y="431"/>
                    <a:pt x="191" y="417"/>
                    <a:pt x="197" y="408"/>
                  </a:cubicBezTo>
                  <a:cubicBezTo>
                    <a:pt x="202" y="399"/>
                    <a:pt x="211" y="393"/>
                    <a:pt x="218" y="386"/>
                  </a:cubicBezTo>
                  <a:cubicBezTo>
                    <a:pt x="214" y="375"/>
                    <a:pt x="217" y="356"/>
                    <a:pt x="207" y="354"/>
                  </a:cubicBezTo>
                  <a:cubicBezTo>
                    <a:pt x="158" y="341"/>
                    <a:pt x="107" y="349"/>
                    <a:pt x="58" y="344"/>
                  </a:cubicBezTo>
                  <a:cubicBezTo>
                    <a:pt x="43" y="342"/>
                    <a:pt x="0" y="333"/>
                    <a:pt x="15" y="333"/>
                  </a:cubicBezTo>
                  <a:cubicBezTo>
                    <a:pt x="86" y="333"/>
                    <a:pt x="157" y="340"/>
                    <a:pt x="229" y="344"/>
                  </a:cubicBezTo>
                  <a:cubicBezTo>
                    <a:pt x="259" y="250"/>
                    <a:pt x="240" y="268"/>
                    <a:pt x="261" y="322"/>
                  </a:cubicBezTo>
                  <a:cubicBezTo>
                    <a:pt x="279" y="371"/>
                    <a:pt x="275" y="360"/>
                    <a:pt x="314" y="386"/>
                  </a:cubicBezTo>
                  <a:cubicBezTo>
                    <a:pt x="328" y="428"/>
                    <a:pt x="346" y="436"/>
                    <a:pt x="389" y="450"/>
                  </a:cubicBezTo>
                  <a:cubicBezTo>
                    <a:pt x="403" y="460"/>
                    <a:pt x="413" y="479"/>
                    <a:pt x="431" y="482"/>
                  </a:cubicBezTo>
                  <a:cubicBezTo>
                    <a:pt x="440" y="483"/>
                    <a:pt x="449" y="470"/>
                    <a:pt x="453" y="461"/>
                  </a:cubicBezTo>
                  <a:cubicBezTo>
                    <a:pt x="460" y="437"/>
                    <a:pt x="459" y="411"/>
                    <a:pt x="463" y="386"/>
                  </a:cubicBezTo>
                  <a:cubicBezTo>
                    <a:pt x="455" y="254"/>
                    <a:pt x="498" y="207"/>
                    <a:pt x="399" y="173"/>
                  </a:cubicBezTo>
                  <a:cubicBezTo>
                    <a:pt x="349" y="123"/>
                    <a:pt x="291" y="85"/>
                    <a:pt x="261" y="24"/>
                  </a:cubicBezTo>
                  <a:cubicBezTo>
                    <a:pt x="277" y="18"/>
                    <a:pt x="308" y="0"/>
                    <a:pt x="325" y="24"/>
                  </a:cubicBezTo>
                  <a:cubicBezTo>
                    <a:pt x="370" y="88"/>
                    <a:pt x="332" y="163"/>
                    <a:pt x="431" y="194"/>
                  </a:cubicBezTo>
                  <a:cubicBezTo>
                    <a:pt x="447" y="130"/>
                    <a:pt x="448" y="65"/>
                    <a:pt x="463" y="2"/>
                  </a:cubicBezTo>
                  <a:cubicBezTo>
                    <a:pt x="471" y="64"/>
                    <a:pt x="483" y="122"/>
                    <a:pt x="495" y="184"/>
                  </a:cubicBezTo>
                  <a:cubicBezTo>
                    <a:pt x="557" y="168"/>
                    <a:pt x="620" y="113"/>
                    <a:pt x="666" y="66"/>
                  </a:cubicBezTo>
                  <a:cubicBezTo>
                    <a:pt x="615" y="32"/>
                    <a:pt x="606" y="45"/>
                    <a:pt x="559" y="77"/>
                  </a:cubicBezTo>
                  <a:lnTo>
                    <a:pt x="506" y="173"/>
                  </a:lnTo>
                  <a:cubicBezTo>
                    <a:pt x="506" y="173"/>
                    <a:pt x="506" y="173"/>
                    <a:pt x="506" y="173"/>
                  </a:cubicBezTo>
                  <a:cubicBezTo>
                    <a:pt x="477" y="244"/>
                    <a:pt x="449" y="315"/>
                    <a:pt x="421" y="386"/>
                  </a:cubicBezTo>
                  <a:cubicBezTo>
                    <a:pt x="424" y="407"/>
                    <a:pt x="415" y="434"/>
                    <a:pt x="431" y="450"/>
                  </a:cubicBezTo>
                  <a:cubicBezTo>
                    <a:pt x="441" y="460"/>
                    <a:pt x="461" y="447"/>
                    <a:pt x="474" y="440"/>
                  </a:cubicBezTo>
                  <a:cubicBezTo>
                    <a:pt x="491" y="429"/>
                    <a:pt x="498" y="404"/>
                    <a:pt x="517" y="397"/>
                  </a:cubicBezTo>
                  <a:cubicBezTo>
                    <a:pt x="558" y="380"/>
                    <a:pt x="592" y="357"/>
                    <a:pt x="634" y="344"/>
                  </a:cubicBezTo>
                  <a:cubicBezTo>
                    <a:pt x="641" y="333"/>
                    <a:pt x="649" y="323"/>
                    <a:pt x="655" y="312"/>
                  </a:cubicBezTo>
                  <a:cubicBezTo>
                    <a:pt x="660" y="298"/>
                    <a:pt x="658" y="281"/>
                    <a:pt x="666" y="269"/>
                  </a:cubicBezTo>
                  <a:cubicBezTo>
                    <a:pt x="711" y="191"/>
                    <a:pt x="710" y="197"/>
                    <a:pt x="762" y="162"/>
                  </a:cubicBezTo>
                  <a:cubicBezTo>
                    <a:pt x="765" y="151"/>
                    <a:pt x="773" y="118"/>
                    <a:pt x="773" y="130"/>
                  </a:cubicBezTo>
                  <a:cubicBezTo>
                    <a:pt x="773" y="151"/>
                    <a:pt x="771" y="174"/>
                    <a:pt x="762" y="194"/>
                  </a:cubicBezTo>
                  <a:cubicBezTo>
                    <a:pt x="747" y="223"/>
                    <a:pt x="716" y="241"/>
                    <a:pt x="698" y="269"/>
                  </a:cubicBezTo>
                  <a:cubicBezTo>
                    <a:pt x="715" y="335"/>
                    <a:pt x="718" y="316"/>
                    <a:pt x="773" y="344"/>
                  </a:cubicBezTo>
                  <a:cubicBezTo>
                    <a:pt x="784" y="349"/>
                    <a:pt x="792" y="365"/>
                    <a:pt x="805" y="365"/>
                  </a:cubicBezTo>
                  <a:cubicBezTo>
                    <a:pt x="815" y="365"/>
                    <a:pt x="791" y="350"/>
                    <a:pt x="783" y="344"/>
                  </a:cubicBezTo>
                  <a:cubicBezTo>
                    <a:pt x="762" y="328"/>
                    <a:pt x="719" y="301"/>
                    <a:pt x="719" y="301"/>
                  </a:cubicBezTo>
                  <a:cubicBezTo>
                    <a:pt x="687" y="304"/>
                    <a:pt x="654" y="304"/>
                    <a:pt x="623" y="312"/>
                  </a:cubicBezTo>
                  <a:cubicBezTo>
                    <a:pt x="599" y="317"/>
                    <a:pt x="575" y="351"/>
                    <a:pt x="559" y="365"/>
                  </a:cubicBezTo>
                  <a:cubicBezTo>
                    <a:pt x="535" y="384"/>
                    <a:pt x="509" y="399"/>
                    <a:pt x="485" y="418"/>
                  </a:cubicBezTo>
                  <a:cubicBezTo>
                    <a:pt x="481" y="471"/>
                    <a:pt x="480" y="524"/>
                    <a:pt x="474" y="578"/>
                  </a:cubicBezTo>
                  <a:cubicBezTo>
                    <a:pt x="472" y="589"/>
                    <a:pt x="464" y="598"/>
                    <a:pt x="463" y="610"/>
                  </a:cubicBezTo>
                  <a:cubicBezTo>
                    <a:pt x="438" y="858"/>
                    <a:pt x="471" y="720"/>
                    <a:pt x="442" y="834"/>
                  </a:cubicBezTo>
                  <a:cubicBezTo>
                    <a:pt x="445" y="869"/>
                    <a:pt x="448" y="905"/>
                    <a:pt x="453" y="941"/>
                  </a:cubicBezTo>
                  <a:cubicBezTo>
                    <a:pt x="455" y="955"/>
                    <a:pt x="465" y="969"/>
                    <a:pt x="463" y="984"/>
                  </a:cubicBezTo>
                  <a:cubicBezTo>
                    <a:pt x="461" y="993"/>
                    <a:pt x="449" y="998"/>
                    <a:pt x="442" y="1005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6000" spc="-1" strike="noStrike">
                <a:solidFill>
                  <a:srgbClr val="ffff00"/>
                </a:solidFill>
                <a:latin typeface="Palatino"/>
              </a:rPr>
              <a:t>A Field Study</a:t>
            </a:r>
            <a:endParaRPr b="1" lang="en-US" sz="6000" spc="-1" strike="noStrike">
              <a:solidFill>
                <a:srgbClr val="ffff00"/>
              </a:solidFill>
              <a:latin typeface="Palatino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82680" y="1981080"/>
            <a:ext cx="351648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8400" y="1981080"/>
            <a:ext cx="351504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9200" y="2092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50d9f"/>
                </a:solidFill>
                <a:latin typeface="Book Antiqua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5183280" y="2016000"/>
            <a:ext cx="32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50d9f"/>
                </a:solidFill>
                <a:latin typeface="Book Antiqua"/>
              </a:rPr>
              <a:t>+  Sewage Sludge 5x/year/2,5 yea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"/>
          <p:cNvSpPr/>
          <p:nvPr/>
        </p:nvSpPr>
        <p:spPr>
          <a:xfrm>
            <a:off x="2228760" y="4191120"/>
            <a:ext cx="132084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356520" y="4191120"/>
            <a:ext cx="132048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"/>
          <p:cNvSpPr/>
          <p:nvPr/>
        </p:nvSpPr>
        <p:spPr>
          <a:xfrm>
            <a:off x="3324960" y="520380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Soil analysi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2783160" y="6172200"/>
            <a:ext cx="59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omic Sans MS"/>
              </a:rPr>
              <a:t>Rhind, et al. (2002) J. Environ. Monit., 4, 142–148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1040" y="60912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Palatino"/>
              </a:rPr>
              <a:t>Field Study Results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1828800"/>
            <a:ext cx="87501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 sheep ingests 300 gr of soil a da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3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Weather conditions can have a deep impa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3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High background contamin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3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imited soil degradation = Contamination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does not decrease with 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Extensive breeding more at ris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2765880" y="6031080"/>
            <a:ext cx="59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omic Sans MS"/>
              </a:rPr>
              <a:t>Rhind, et al. (2002) J. Environ. Monit., 4, 142–148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Palatino"/>
              </a:rPr>
              <a:t>Limitations to </a:t>
            </a:r>
            <a:r>
              <a:rPr b="1" i="1" lang="it-IT" sz="4400" spc="-1" strike="noStrike">
                <a:solidFill>
                  <a:srgbClr val="ffff00"/>
                </a:solidFill>
                <a:latin typeface="Palatino"/>
              </a:rPr>
              <a:t>in vivo</a:t>
            </a:r>
            <a:r>
              <a:rPr b="1" lang="it-IT" sz="4400" spc="-1" strike="noStrike">
                <a:solidFill>
                  <a:srgbClr val="ffff00"/>
                </a:solidFill>
                <a:latin typeface="Palatino"/>
              </a:rPr>
              <a:t> experiments in farm animals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256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The previous study took 3 years to be performed and was limited to soil analysis</a:t>
            </a:r>
            <a:endParaRPr b="1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Sample analysis is very expensive and technically demanding: several hundreds are required.</a:t>
            </a:r>
            <a:endParaRPr b="1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Palatino"/>
              </a:rPr>
              <a:t>Big amounts (100’s of grams) of toxic substances are required for in vivo experiments: most are forbidden because of disposal problem and costs </a:t>
            </a:r>
            <a:endParaRPr b="1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064e"/>
            </a:gs>
            <a:gs pos="100000">
              <a:srgbClr val="250d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09120" y="533520"/>
            <a:ext cx="4375440" cy="3200040"/>
            <a:chOff x="609120" y="533520"/>
            <a:chExt cx="4375440" cy="32000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016280" y="909720"/>
              <a:ext cx="3467520" cy="24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09480" y="627120"/>
              <a:ext cx="4375080" cy="31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09120" y="533520"/>
              <a:ext cx="4375080" cy="31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765440" y="35053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ield stud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257800" y="3297240"/>
            <a:ext cx="3962520" cy="3182400"/>
            <a:chOff x="5257800" y="3297240"/>
            <a:chExt cx="3962520" cy="318240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5257800" y="3297240"/>
              <a:ext cx="396252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965560" y="6019920"/>
              <a:ext cx="23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Arial"/>
                </a:rPr>
                <a:t>In vitro studies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 rot="10815000">
            <a:off x="2132280" y="4038480"/>
            <a:ext cx="2819160" cy="1828800"/>
          </a:xfrm>
          <a:custGeom>
            <a:avLst/>
            <a:gdLst>
              <a:gd name="textAreaLeft" fmla="*/ -360 w 2819160"/>
              <a:gd name="textAreaRight" fmla="*/ 2819160 w 28191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3:32:05Z</dcterms:created>
  <dc:creator>Fulvio Gandolfi</dc:creator>
  <dc:description/>
  <dc:language>en-US</dc:language>
  <cp:lastModifiedBy>PANOS</cp:lastModifiedBy>
  <cp:lastPrinted>2003-07-07T17:21:53Z</cp:lastPrinted>
  <dcterms:modified xsi:type="dcterms:W3CDTF">2004-05-08T08:13:50Z</dcterms:modified>
  <cp:revision>250</cp:revision>
  <dc:subject/>
  <dc:title>PowerPoint Presentation</dc:title>
</cp:coreProperties>
</file>