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F960-A070-4D3B-B788-70160664A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37335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E0C5-99D0-486E-BC36-58B214DA9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261D-6844-4B6B-8C8D-11F5ADFB7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8394-75C4-4C26-ACFD-85983B0FD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A1D3F-6062-47E4-A625-B5C581DA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C858A-C14D-4746-9E3E-4810AAA3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C58F5-9679-4C85-A5DD-5E660A52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AC001-2081-4372-A1F9-A72E2F65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F22F-C048-43D0-B9F4-25FE7517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18098-AB32-4B40-B9D0-CD85F3A7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2F4D6-9A9A-4491-8492-6B7D4A48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1BA6A-33E2-4E2E-95BB-8EC5A102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939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D2347-97D5-4E14-8E72-8357246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73998-FFDF-471B-B807-556B4F5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160" y="37335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5E3DC-A9AC-4060-86E2-1B643F1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939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3305F-9FED-4EF9-AC31-4CB6FA14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264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92480" y="106668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316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264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92480" y="37335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5D464-3A5B-4F64-97D9-199205B2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C523-CDD3-454D-B444-23E0140D6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B54E-CDFF-4144-8E09-E984BA01A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8A3F-43FE-415D-9921-8FD687BF1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696C-96CF-4E10-BBAA-E8E3BEB93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FB7B-A62E-4A4B-A210-178E9AF49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37335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F067-CA21-42A6-8AC5-EED51E44B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8972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06668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733560"/>
            <a:ext cx="79246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1AB1-A6BC-4152-8CEB-9868F7A29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467480" y="6324120"/>
            <a:ext cx="990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9F84-C9FF-417A-8917-E47526C657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2920" y="651996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ff33"/>
                </a:solidFill>
                <a:latin typeface="Times New Roman"/>
              </a:rPr>
              <a:t>Human Ecology Departmen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467480" y="5791320"/>
            <a:ext cx="990720" cy="93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3082-85C1-4A22-B994-661A57C81D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lth Impact Assessment of fertility impacts for selected pollutants : opportunitie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571920"/>
            <a:ext cx="66265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Julie De Wit &amp; Luc He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Human Ecology Department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Vrije Universiteit Brussel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jbdewit@meko.vub.ac.b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. 4. Risk characterisation of dioxins based on human dat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osure of men to 14,81 pgTEQ/kg bw.d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significant change in sex rati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osure to 34,4 pgTEQ/kg fat in breast milk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SH  &amp;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T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 serum of babi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ymus canc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. Risk assessment of atrazine in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production of INF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IL-5, TNF-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duction of aromatase :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roge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estrog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repinefrin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pamin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H &amp;PR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2360" y="1219320"/>
            <a:ext cx="5553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1. Identification of hazard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atrazi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144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880" y="1600200"/>
          <a:ext cx="8153640" cy="4289400"/>
        </p:xfrm>
        <a:graphic>
          <a:graphicData uri="http://schemas.openxmlformats.org/drawingml/2006/table">
            <a:tbl>
              <a:tblPr/>
              <a:tblGrid>
                <a:gridCol w="1676520"/>
                <a:gridCol w="1549440"/>
                <a:gridCol w="1522440"/>
                <a:gridCol w="3405240"/>
              </a:tblGrid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 speci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 (mg/kg/day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uth-African claw frog (Xenopus laevis) (f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l in wat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sorption of primary and secondary ovaries by exposure during sexual differenti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10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uth-African claw frog (Xenopus laevis) (f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l in wat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sticular volume, testicular resorption &amp; aplasy,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of fertility capacities during the reproductive life by exposure during sexual differenti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atrazine (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1144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1143000"/>
          <a:ext cx="8457840" cy="5333760"/>
        </p:xfrm>
        <a:graphic>
          <a:graphicData uri="http://schemas.openxmlformats.org/drawingml/2006/table">
            <a:tbl>
              <a:tblPr/>
              <a:tblGrid>
                <a:gridCol w="2026080"/>
                <a:gridCol w="1585800"/>
                <a:gridCol w="1497960"/>
                <a:gridCol w="33480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 speci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 (mg/kg/da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w-Zealand White rabbi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 capac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rague-Dawley ra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 capac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D &amp; LE ra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 m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lease of LH and prolact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istar rat (f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ange in oestrus cyc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 m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ange in oestrus cycl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concentration: delay of oestrus cycl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i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 m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vary follicular cysts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rsistency of corpus luteum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atrazine (3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1144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1143000"/>
          <a:ext cx="8610480" cy="5486400"/>
        </p:xfrm>
        <a:graphic>
          <a:graphicData uri="http://schemas.openxmlformats.org/drawingml/2006/table">
            <a:tbl>
              <a:tblPr/>
              <a:tblGrid>
                <a:gridCol w="2295360"/>
                <a:gridCol w="1557360"/>
                <a:gridCol w="1470240"/>
                <a:gridCol w="328752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 speci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 (mg/kg/day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lbino rat (f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0 mg/kg.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ollicular pre-thyroidal cells,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ollicular volume,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uclear volume of thyroidal cel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9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istar rat (m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5 mg/kg.d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yperprolactinemia in breastfeeding offspring exposed during lactation (treated mother animal)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disturbance of development of TIDA-neuron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anges PRL regul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itis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Exposure assessmen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 atraz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05000" y="762120"/>
            <a:ext cx="3551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685800"/>
          <a:ext cx="8763120" cy="5819760"/>
        </p:xfrm>
        <a:graphic>
          <a:graphicData uri="http://schemas.openxmlformats.org/drawingml/2006/table">
            <a:tbl>
              <a:tblPr/>
              <a:tblGrid>
                <a:gridCol w="1828800"/>
                <a:gridCol w="2514600"/>
                <a:gridCol w="2209680"/>
                <a:gridCol w="2210040"/>
              </a:tblGrid>
              <a:tr h="264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posure way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 (n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opp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69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10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111 ng/m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 (n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opp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0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00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040629 ng/m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 (n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opp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0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00 ng/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040629 ng/m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rinking wat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2,8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2,8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8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halatio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8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8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ish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289,9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21,7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,2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bl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6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0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0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-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ilk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,31.10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otal 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4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4. Risk characterisatio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atrazine based on animal da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520" y="1219320"/>
          <a:ext cx="8153280" cy="5257800"/>
        </p:xfrm>
        <a:graphic>
          <a:graphicData uri="http://schemas.openxmlformats.org/drawingml/2006/table">
            <a:tbl>
              <a:tblPr/>
              <a:tblGrid>
                <a:gridCol w="3124080"/>
                <a:gridCol w="1295280"/>
                <a:gridCol w="1219320"/>
                <a:gridCol w="1066680"/>
                <a:gridCol w="144792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 (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# ovaries, testicular volume, fertil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H - PRL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33,3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,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oestrus cyc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1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vary follicular cyst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2,2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4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3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hyroidal cells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esticular volum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666,6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I. Risk assessment of bisphenol A in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imics oestrog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nding on ER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&amp; ER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activation of 16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hydroxylase &amp; testosterone-2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hydroxylas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production of dihydrotestosteron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PR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12960" y="15238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Identification of haza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II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of bisphenol 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990720"/>
          <a:ext cx="8458200" cy="5265720"/>
        </p:xfrm>
        <a:graphic>
          <a:graphicData uri="http://schemas.openxmlformats.org/drawingml/2006/table">
            <a:tbl>
              <a:tblPr/>
              <a:tblGrid>
                <a:gridCol w="1752840"/>
                <a:gridCol w="1158840"/>
                <a:gridCol w="1203120"/>
                <a:gridCol w="1143000"/>
                <a:gridCol w="3200400"/>
              </a:tblGrid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(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stis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344 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terus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uter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erm produc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uter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F-1 mic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 uter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male 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terine, vaginal differentiation, PRL-releas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male Noble 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fluence of breast gland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 mous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sperm production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per gram test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of bisphenol A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838080"/>
            <a:ext cx="40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762120"/>
          <a:ext cx="8763120" cy="5664240"/>
        </p:xfrm>
        <a:graphic>
          <a:graphicData uri="http://schemas.openxmlformats.org/drawingml/2006/table">
            <a:tbl>
              <a:tblPr/>
              <a:tblGrid>
                <a:gridCol w="1752480"/>
                <a:gridCol w="1067040"/>
                <a:gridCol w="1143000"/>
                <a:gridCol w="1143000"/>
                <a:gridCol w="365760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(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uvenile male 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stosterone, histological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in test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t adult female CD-1 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 day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5.10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ight of luminal epithelial cells and uteru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t adult female CD-1 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5.10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duction of lactoferrin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egnant CD-1 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ys 16 &amp; 18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weight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epididymal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2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ous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ys 11 &amp; 1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stnatal growth velocity &amp; reproductive functions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prostate weight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epididymal weigh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 Swiss 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erm &amp; efficiency of sperm produc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-step plan of H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33526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dentification of haza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ffect assess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osure assess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isk characterisation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981080"/>
            <a:ext cx="8458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ased on method of Technical Guidance Document of European Commissio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II.3. Exposure assessment of bisphenol 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28600" y="393840"/>
          <a:ext cx="8686800" cy="6440400"/>
        </p:xfrm>
        <a:graphic>
          <a:graphicData uri="http://schemas.openxmlformats.org/drawingml/2006/table">
            <a:tbl>
              <a:tblPr/>
              <a:tblGrid>
                <a:gridCol w="1492200"/>
                <a:gridCol w="1262160"/>
                <a:gridCol w="1263600"/>
                <a:gridCol w="1265400"/>
                <a:gridCol w="1263600"/>
                <a:gridCol w="1261800"/>
                <a:gridCol w="878040"/>
              </a:tblGrid>
              <a:tr h="2213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posure ways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200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80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81080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1,40.106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50 ng/m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06 ng/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5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1548,27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2,00.10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6 ng/m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12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,5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6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277,10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2,9 ng/m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rinking wat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2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,67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0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5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34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halatio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,7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,5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7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,0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2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25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ish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6,1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7,22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8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8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bl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360,85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587,66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48,4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23,15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45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6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a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12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97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85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67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2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ilk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02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52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5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1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07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otal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I.3. Risk characterisation of bisphenol A based on animal da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371600"/>
          <a:ext cx="8305560" cy="4317840"/>
        </p:xfrm>
        <a:graphic>
          <a:graphicData uri="http://schemas.openxmlformats.org/drawingml/2006/table">
            <a:tbl>
              <a:tblPr/>
              <a:tblGrid>
                <a:gridCol w="2438280"/>
                <a:gridCol w="1143000"/>
                <a:gridCol w="1752480"/>
                <a:gridCol w="1600200"/>
                <a:gridCol w="1371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in men (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mi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erility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1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stis weight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1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weight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3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1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erm production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1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production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prostate weight,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didymal weigh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18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5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I.3. Risk characterisation of bisphenol A based on animal data (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371600"/>
          <a:ext cx="8305560" cy="4014720"/>
        </p:xfrm>
        <a:graphic>
          <a:graphicData uri="http://schemas.openxmlformats.org/drawingml/2006/table">
            <a:tbl>
              <a:tblPr/>
              <a:tblGrid>
                <a:gridCol w="2438280"/>
                <a:gridCol w="1143000"/>
                <a:gridCol w="1752480"/>
                <a:gridCol w="1600200"/>
                <a:gridCol w="1371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in women (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min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erility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fluention of breast gland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1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terus weight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3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rum PRL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2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production, early puber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7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37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7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II.3. Risk characterisation of bisphenol A based on human dat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ölkel et al. (2002)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ver : BPA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BPA-glucuronid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t high body burd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mall quantities can bind on recep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ake into account difference in toxic kinetics between rodents &amp; hum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one relevant epidemiological stud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V. Risk assessment of ethynyloestradiol in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teracts with 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nduces &gt; effects than estradiol by 17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ethynyl grou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taboliz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1/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907920"/>
            <a:ext cx="6019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644480"/>
            <a:ext cx="592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Identitication of haza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V.2. Effect assessment of 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557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219320"/>
          <a:ext cx="8458200" cy="4498920"/>
        </p:xfrm>
        <a:graphic>
          <a:graphicData uri="http://schemas.openxmlformats.org/drawingml/2006/table">
            <a:tbl>
              <a:tblPr/>
              <a:tblGrid>
                <a:gridCol w="2895480"/>
                <a:gridCol w="1219320"/>
                <a:gridCol w="1341360"/>
                <a:gridCol w="300204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aka (Oryzias latipes)1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88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daka (Oryzias latipe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3,9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patic vitellogenin in males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merican elrits (Pimephales promela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duction of vitellogen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Zebra fish (Danio reri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67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duction of vitellogenin &amp;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ertility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matoschistus minut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ramatic reduction in fertility and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hepatic vitellogenin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ydra vulgar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0.10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xual reproduc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-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2. Effect assessment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5576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457200"/>
          <a:ext cx="8534520" cy="6248520"/>
        </p:xfrm>
        <a:graphic>
          <a:graphicData uri="http://schemas.openxmlformats.org/drawingml/2006/table">
            <a:tbl>
              <a:tblPr/>
              <a:tblGrid>
                <a:gridCol w="2971800"/>
                <a:gridCol w="1219320"/>
                <a:gridCol w="1341360"/>
                <a:gridCol w="3002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6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 SD-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0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75000"/>
                        <a:buFont typeface="Symbol" charset="2"/>
                        <a:buChar char="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estis weight, epididymis, prostate &amp; sperm-vesicles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weight of pituitary gland &amp; adrenal gland, Atrophy of Leydig cells, degeneration of pachytene spermatocytes, vascular degeneration of Sertoli cells, retention of spermatid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 SD-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weight, pituitary gland, atrophic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in prostate, breast glands, degenerative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of test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male SD-ra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ight of ovaries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weight of uterus &amp; hypertrophy of uterus epithelial cell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e mouse in uter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2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/da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sperm production during adolescent perio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2. Effect assessment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ral contraceptives containing 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er presence of breast canc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man using OC + &gt; 35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 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p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gher risk for breast canc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oman using OC + &lt; 35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 EE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/pil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tection against ovaries cancer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3. Exposure assessment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422280"/>
          <a:ext cx="8839080" cy="5904000"/>
        </p:xfrm>
        <a:graphic>
          <a:graphicData uri="http://schemas.openxmlformats.org/drawingml/2006/table">
            <a:tbl>
              <a:tblPr/>
              <a:tblGrid>
                <a:gridCol w="1603080"/>
                <a:gridCol w="1206720"/>
                <a:gridCol w="1206360"/>
                <a:gridCol w="1206720"/>
                <a:gridCol w="1204920"/>
                <a:gridCol w="1206360"/>
                <a:gridCol w="1204920"/>
              </a:tblGrid>
              <a:tr h="184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posure way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4,2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ace 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64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 water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26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9,81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6,4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ace 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1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= 0,085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,27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n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drink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11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urface 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02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 water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013 ng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0,50 ng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n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rinking wate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9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1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8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21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14.10^(-3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67.10^(-3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is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,6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2,2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4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5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8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bl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3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50.10^(-3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75.10^(-3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a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83.10^(-3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13.10^(-3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54.10^(-5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06.10^(-5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94.10^(-6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43.10^(-6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ilk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08.10^(-3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5.10^(-3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.10^(-5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98.10^(-5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73.10^(-6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02.10^(-6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,6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3,4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3. Exposure assessment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1676520"/>
          <a:ext cx="8534160" cy="3265200"/>
        </p:xfrm>
        <a:graphic>
          <a:graphicData uri="http://schemas.openxmlformats.org/drawingml/2006/table">
            <a:tbl>
              <a:tblPr/>
              <a:tblGrid>
                <a:gridCol w="1603080"/>
                <a:gridCol w="2413080"/>
                <a:gridCol w="2411640"/>
                <a:gridCol w="2106360"/>
              </a:tblGrid>
              <a:tr h="13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posure way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ng/kg.d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(ng/kg.d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ng/kg.d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without using OC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3,4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using OC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0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7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3,4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. Risk assessment of dioxins in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,3,7,8-TCDD activates AhR by ligan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merisation with Arn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ctivation of CYP1A1 &amp; CYP1A2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oid housekeeping of estrogens, testosterone or TS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0666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Identification of haza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4. Risk characterisation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Flander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33520" y="838080"/>
          <a:ext cx="8305560" cy="5559480"/>
        </p:xfrm>
        <a:graphic>
          <a:graphicData uri="http://schemas.openxmlformats.org/drawingml/2006/table">
            <a:tbl>
              <a:tblPr/>
              <a:tblGrid>
                <a:gridCol w="1981080"/>
                <a:gridCol w="1523880"/>
                <a:gridCol w="1600200"/>
                <a:gridCol w="1600200"/>
                <a:gridCol w="16002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for men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/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state &amp; hypofyse weight,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testis weigh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55,56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,6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erm production during adolescen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2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8,6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4. Risk characterisation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Flanders 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3520" y="838080"/>
          <a:ext cx="8305560" cy="5640480"/>
        </p:xfrm>
        <a:graphic>
          <a:graphicData uri="http://schemas.openxmlformats.org/drawingml/2006/table">
            <a:tbl>
              <a:tblPr/>
              <a:tblGrid>
                <a:gridCol w="1981080"/>
                <a:gridCol w="1676520"/>
                <a:gridCol w="1600200"/>
                <a:gridCol w="1523880"/>
                <a:gridCol w="152388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for women not using OC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/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7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6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3,4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ight ovary ducti &amp;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uterus weigh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222,2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6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7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3,4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.4. Risk characterisation of E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 the Flanders 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838080"/>
          <a:ext cx="8305560" cy="5183280"/>
        </p:xfrm>
        <a:graphic>
          <a:graphicData uri="http://schemas.openxmlformats.org/drawingml/2006/table">
            <a:tbl>
              <a:tblPr/>
              <a:tblGrid>
                <a:gridCol w="1981080"/>
                <a:gridCol w="1676520"/>
                <a:gridCol w="1600200"/>
                <a:gridCol w="1523880"/>
                <a:gridCol w="152388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for women using OC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ng/kg.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ng/kg/d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17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0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7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3,4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22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ight ovary ducti &amp;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uterus weight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222,2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02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50,73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83,4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. Risk assessment of tributyltin compounds for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ors of oxidative phosphorylation of mitochond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energy produ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fluence on P450 mono oxygenase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disruption of hormonal balanc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1600200"/>
            <a:ext cx="456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. Identification of haza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.2. Effect assessment of TBT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23920" y="175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920" y="990720"/>
          <a:ext cx="8686800" cy="5181120"/>
        </p:xfrm>
        <a:graphic>
          <a:graphicData uri="http://schemas.openxmlformats.org/drawingml/2006/table">
            <a:tbl>
              <a:tblPr/>
              <a:tblGrid>
                <a:gridCol w="1338120"/>
                <a:gridCol w="1735200"/>
                <a:gridCol w="1668600"/>
                <a:gridCol w="394488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AEL (m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AEL (mg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,4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# decendan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ou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bnormal skeleton growt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ous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keleton dama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keleton dama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stnatal deaths,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motoric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ous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ight of foetu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.3. Exposure assess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6680" y="1662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43000" y="1397160"/>
          <a:ext cx="6858000" cy="4189320"/>
        </p:xfrm>
        <a:graphic>
          <a:graphicData uri="http://schemas.openxmlformats.org/drawingml/2006/table">
            <a:tbl>
              <a:tblPr/>
              <a:tblGrid>
                <a:gridCol w="2278080"/>
                <a:gridCol w="1968480"/>
                <a:gridCol w="2611440"/>
              </a:tblGrid>
              <a:tr h="17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cation of sampl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centration in sediments (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 tin/kg ds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(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/kg.d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 of Antwerp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1 80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8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ishing port of Zeebrugg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uikom of Oostend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9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.4. Risk characterisation of TBT in the Fland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33520" y="1371600"/>
          <a:ext cx="7924680" cy="4571640"/>
        </p:xfrm>
        <a:graphic>
          <a:graphicData uri="http://schemas.openxmlformats.org/drawingml/2006/table">
            <a:tbl>
              <a:tblPr/>
              <a:tblGrid>
                <a:gridCol w="1676160"/>
                <a:gridCol w="1143000"/>
                <a:gridCol w="1143000"/>
                <a:gridCol w="1320840"/>
                <a:gridCol w="1320840"/>
                <a:gridCol w="1320840"/>
              </a:tblGrid>
              <a:tr h="118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s (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TBT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Spuikom Oostend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Port of Zeebrug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Port of Antwer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rtil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9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keleton damag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9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00"/>
                        </a:buClr>
                        <a:buSzPct val="75000"/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stnatal deaths,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otoric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9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eight of foetu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009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. Limita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e with view of determining potential risks of EDC in Flemish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ck of environmental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ferred to foreign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irst indication, do not result in definitive conclu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GD (EC, 1996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istic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robabilist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ssessment based on 1 reproduction of human daily intake : no difference between child &amp; adul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. Effect assessm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of diox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020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371600"/>
          <a:ext cx="8153640" cy="5105520"/>
        </p:xfrm>
        <a:graphic>
          <a:graphicData uri="http://schemas.openxmlformats.org/drawingml/2006/table">
            <a:tbl>
              <a:tblPr/>
              <a:tblGrid>
                <a:gridCol w="1438560"/>
                <a:gridCol w="1726920"/>
                <a:gridCol w="1735200"/>
                <a:gridCol w="3252960"/>
              </a:tblGrid>
              <a:tr h="130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 speci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 (ng/kg/day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(ng/kg/day)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ver, lung, nose, tongue carcinoma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patocellular nodules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2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# spermatozo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oltz-mann rat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productivity of mal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ng Evans r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ormation of vaginal threat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. 2. Effect assessment 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of dioxins (2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30200" y="184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1371600"/>
          <a:ext cx="8534520" cy="4952880"/>
        </p:xfrm>
        <a:graphic>
          <a:graphicData uri="http://schemas.openxmlformats.org/drawingml/2006/table">
            <a:tbl>
              <a:tblPr/>
              <a:tblGrid>
                <a:gridCol w="2146320"/>
                <a:gridCol w="1065240"/>
                <a:gridCol w="963720"/>
                <a:gridCol w="1390320"/>
                <a:gridCol w="2968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ind of effec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imal speci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(A)EL (ng/kg/day)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O(A)EL (ng/kg/day) *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rgans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hesus monke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3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dometriosis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3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prague Dawley ra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totoxicity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hesus monke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642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totoxicity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. </a:t>
            </a: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2. Effect assessment (3) of dioxins</a:t>
            </a: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osure of women to Seveso accident 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&gt; descendant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fema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centrations &gt; 118 pg TEQ TCDD/g serumlipids in men during conceptio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significant change in sexrati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 burden of 25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 TEQ/kg bw in woma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radio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gesteron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amenorrhe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reast milk with 30,75 - 76,43 pgTEQ/g fa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S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. 3. Exposure assessment of dioxi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838080"/>
          <a:ext cx="8534160" cy="5797800"/>
        </p:xfrm>
        <a:graphic>
          <a:graphicData uri="http://schemas.openxmlformats.org/drawingml/2006/table">
            <a:tbl>
              <a:tblPr/>
              <a:tblGrid>
                <a:gridCol w="1295280"/>
                <a:gridCol w="2209680"/>
                <a:gridCol w="2438640"/>
                <a:gridCol w="2590560"/>
              </a:tblGrid>
              <a:tr h="22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xposure way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fg TEQ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soil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3,90.10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fgTEQ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ir 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= 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,30 fgTEQ/m</a:t>
                      </a:r>
                      <a:r>
                        <a:rPr b="0" lang="en-GB" sz="1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GB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water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= 8,03 fgTEQ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fg TEQ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soil  = 9,80.106 fgTEQ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air  = 75,78 fgTEQ/m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water = 11,50 fgTEQ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fg TEQ/kg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soil = 27,20.106 fgTEQ/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air   = 249,00 fgTEQ/m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water = 14,98 fgTEQ/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rinking wate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4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4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,14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nhalatio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3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6,2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3,3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is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08,5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71,5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135,3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getabl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2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,0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,4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ea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23,2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81,1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564,7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ilk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20,9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819,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047,6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 </a:t>
                      </a:r>
                      <a:r>
                        <a:rPr b="0" lang="en-GB" sz="20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otal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pg TEQ/kg .d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9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,81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. 4. Risk characterisation of dioxins in the Flander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essment based on animal data (TGD, EC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fD = LO(A)EL / uncertainty fac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f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EHDI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fD &gt; EHDI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no assessed human health effe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fD &lt; EHDI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o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ssessed human health effec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sessment based on epidemiological stud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I. 4. Risk characterisation of dioxins based on animal dat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1752480"/>
          <a:ext cx="8610480" cy="4469040"/>
        </p:xfrm>
        <a:graphic>
          <a:graphicData uri="http://schemas.openxmlformats.org/drawingml/2006/table">
            <a:tbl>
              <a:tblPr/>
              <a:tblGrid>
                <a:gridCol w="3352680"/>
                <a:gridCol w="1447920"/>
                <a:gridCol w="1295280"/>
                <a:gridCol w="1371600"/>
                <a:gridCol w="1143000"/>
              </a:tblGrid>
              <a:tr h="92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ffect (pgTEQ/kg.d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f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av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HDI</a:t>
                      </a:r>
                      <a:r>
                        <a:rPr b="0" lang="en-US" sz="24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# spermatozo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4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9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,8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orming of vaginal threa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222,2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9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,8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dometrio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,4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9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,8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Fetotoxicity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,1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,56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,79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4,8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6:48Z</dcterms:created>
  <dc:creator>Glenn Ronsse</dc:creator>
  <dc:description/>
  <dc:language>en-US</dc:language>
  <cp:lastModifiedBy>Luc Hens</cp:lastModifiedBy>
  <cp:lastPrinted>2001-01-29T13:20:54Z</cp:lastPrinted>
  <dcterms:modified xsi:type="dcterms:W3CDTF">2004-05-08T08:16:11Z</dcterms:modified>
  <cp:revision>184</cp:revision>
  <dc:subject/>
  <dc:title>PowerPoint Presentation</dc:title>
</cp:coreProperties>
</file>